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CF1C4-C49A-474F-A8C1-DD59B51C7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4D0F6-CBEF-4FBA-9264-03AA1F3FF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5990BE-1E8D-4F0B-A8EB-D0CBA147FD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3C3DCA-8A23-4728-A9E5-A7C6002690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9B6ACA-69EB-4CD8-9607-0EA8967033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D9F9B5-BFFB-4D09-92C6-94D196B739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0"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ADE285-B2FA-47A1-8278-7DA0ADBF9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4"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2B73EB-8EFD-42FD-B2FE-AEE19BF3A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6"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7"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402F02-62B6-4918-BEB0-A5C0993499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2"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A5FAEA-A108-47BC-9D9E-340C275865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84"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5"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6"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7"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8"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9"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3EFADB-5563-415C-83A5-CB37CAB9D2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02C844-9633-49FF-A398-76B2827512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3F718-781A-4652-83B7-D7F0DFE92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E341FE-169E-4384-B8B6-53FD6793A1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2887FF-7A30-4533-8C51-A3E7795FA9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6E2DA1-8D48-4E56-A4C2-E6521C465C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F411B5-5A5F-4BE9-AF8D-DDD91F9092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06E149-EE9B-4CB6-A654-A927B9847D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1C73D6-8AE0-40C0-9065-F3FB41C610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CCE7AB-E45B-4F64-AB00-7AB586B181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DE8533-2067-4374-A065-C2B5EFF915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5CB1D8-C00E-4084-8483-56AC5FFAA1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E16243-E510-41A4-BF99-F88922C8D4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95507-9083-4E3D-A6C4-E5B564310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B64583-C57D-4F0E-900F-0E1872171E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B6F402-E67C-41DB-933B-C58A2081CB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DED7EA-E06F-46A8-AB7C-035FEDF8F2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327DBE-EE42-48E7-ABB0-8D95B1B143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523DC3-3D6C-4A94-A84D-74D4E7D117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E35297-DB61-4CEF-A5B3-EF1CAAAA79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4663D3-82E8-4332-A0CA-ADCECB0C94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7BD4D4-3FC2-4575-BAA4-E88802679B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163DE0-715A-4B22-88EF-DFB261B2D3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FADC7D-1620-44CC-A9C9-8F94454372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58CAEB-D17C-4758-BBAC-2364FACC38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56AD5A-83B1-4390-A822-5580A721A6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7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C86580C-501B-423A-8BB4-DA2F3B4BE7E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CFD516-7261-44F2-93B1-5A4ED4EC3BA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729E7C-129A-4BAA-8BBA-4B2A657C6D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AFE783-C61A-4868-A32A-E85083F3D5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FD62CD-CC3D-47ED-A947-BD99FC2DF0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FFA2B4-0EDA-4E61-8D62-011D3CB0FF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411FBF-0A7C-4135-A274-F67A79EF38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3775CF-023B-4BC7-9572-769604B2DF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4EDE1D-09F4-4651-B4B3-D7A390B22C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8696F3-CA98-4AB4-A835-8021212DFB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9CD7E4-6E18-4956-8D1D-42F558291D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190BF2-C558-4DA2-923C-277D4A1F56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2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1C1FFEB-B2F0-4CEE-834B-FBBD4171C2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529CB95-B858-4FF3-B51C-14E3D107700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2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99E94F-D4ED-45C8-8D3C-7B90ED273B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DD4427-9416-4C9A-8D41-514F1FBD76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5ED376-4197-479F-99F6-94645BFEAC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A8048E-F4B3-47FE-967C-7B26EF18D0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0A7A70-FF19-4198-9C02-A7AE90CD5B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2CE82B-1FC3-4795-95FE-357F5C7423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4E49BF-8854-4A91-BD33-6E5CA3639F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064A6F-F502-4229-AD08-9A97FEEE6F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57B91F-37C0-438C-A502-92765059D4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97BC6B-A888-4C9E-821D-FF092AD57BD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93F5A85-7CA3-46D5-B815-DE280457F9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BD120B4-B1D9-4FEE-88D7-E2A5B637FB5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FCE708-22FA-4228-98AD-6932DA7633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D115EC-20C7-4C8E-A49E-043D750B16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7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DB411F-EEFC-4EF2-AC72-7C030CBF1A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CE3CB6-E251-4BA6-A6A2-F10C7B6FBD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F42FDF-1065-4097-8FBD-0E6AD01662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1B0036-9B7F-4F02-9A98-FE4061AF99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BA7F66-4500-43D6-B53C-51CA97CF9D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89E3D9-F4E1-403E-A656-D67E7B8538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C1B46AD-4FB4-43AA-9329-12E5EC10D9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B947A3A-C373-4D85-8B54-F8745587EE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2D8FFA7-CB2F-4D5C-80B4-01FBAD5354F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B768B-1B0F-43A7-8616-65E9FC511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746AF8D-40DD-4320-B77F-C4B4ECDB3BF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EF329D-3D5A-41CB-9511-7E46532856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24E1FC-9D72-4E2D-AFF5-0AA8CE5251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7D34FD-CA35-4D57-AA06-60C6394066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C88865-AA37-44CB-9ECA-6FC82D536A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51ADF-F60F-4638-8D2C-E1F5A65EB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5E89AF-71C0-4952-B196-199F001887C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169BC8-471F-4A74-8A5B-5EBE6CD7C3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9DCEB9-C8A1-4035-9CCE-D9E14E9D8F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DB139D-98AC-4301-85A3-1EFDBD98D9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10441F-E89C-4024-81E8-BD81D8B1E3D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DB6EA53-D722-4193-8DBA-6ACEADE8FFD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2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955C0B5-2199-432B-92FE-C41A39FE891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3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17736-C5DE-4A27-BE1E-FD96A86F8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F94EA-2D34-4954-9D6D-3E79892F8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8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111EA-E712-4898-823E-483820DAE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1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8C3FF0-8381-47DF-9E16-BC501E4E04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7"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EB3EB-100C-42A1-B2FA-B212979EF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9"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F5ACC4-4C69-427B-B17F-BFA1D6A61F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1"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2"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53277E-6C6D-4B91-B99D-500CF1C58A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BF6DC9-CE4F-4CA8-A37A-9BA35D6104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4814E4-BC47-4717-9FF8-98C12DA353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7"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8"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EEC548-DB37-4B76-A726-0E705968A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2"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A9622C-69C8-4A44-B56B-09586ED84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6"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8C162D-E5CD-42C2-A3D6-0EB468763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763F6-54E7-4D8F-B42D-C59B9ED7C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8"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9"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97BE3F-3FD4-473D-AE85-695101C8EC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3"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4"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52DEB6-AA80-4577-A9E6-244AC8078B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6"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7"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8"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9"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0"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1"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B0B4A5-8FD9-4073-8F8B-5A86C3D2A1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D59FB5-9E34-4479-B4E5-5F675D59BB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E8D1A5-12F1-4027-8094-57008B37CE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2F3570-8EF1-49D1-A131-204168737A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7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44BFFC-9A6A-4021-B4D6-3C0D59BF2E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6BDCC6-BE45-46B7-AF04-47F09AB2E7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B35C1E-1382-4E63-9EE2-64D38C98F3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168EBC-B1A3-4CEF-8CE4-99B4ED674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B608-D0A3-46B9-816C-ED13540D6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EC286-AC1C-4B21-803B-223670E111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30905-A689-48E7-BED2-157A8E0EE4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A4747C-3D0D-4A77-AC40-94745D26AE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4B0355-FFFF-4F8E-88A9-1A16B0BFA0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E0DBB2-E818-4769-8712-7A3DD4C082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989CE8-E3D1-4C64-9A68-CA2D6A285C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3"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5AE0BC-C764-458E-B316-D68CFA3797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5"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AA011B-2A2A-4720-8B9C-547DD6A6C4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8"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F4C82B-E4C8-4369-968E-165641057E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53FD06-1A26-4E34-9174-5FA98F4973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2D302-FFCE-40E6-9F02-54D1D7116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4250EF-EC45-4CD4-87E5-FA3377053D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3"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4"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034480-81F1-404C-82B7-365075CABC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6"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8"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606DC-C8A5-4BFA-BFF1-C05707F55F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2"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8C6E76-ADFD-4772-9967-5D5293CC9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4"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5"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FD8504-9C89-468F-BAA7-7B211D3E3A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9"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0"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EB2543-FD88-4558-A805-CCD328D87D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42"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3"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4"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5"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6"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7"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414A77-C14B-4187-B011-C57B37250F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7EA812-AADF-45BD-A8B6-B0B65D1AFA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5"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484D50-3B96-41D7-8BE4-D19824A5DE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7"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C73F44-26C1-48DC-B65F-986C943DAB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 name="PlaceHolder 3"/>
          <p:cNvSpPr>
            <a:spLocks noGrp="1"/>
          </p:cNvSpPr>
          <p:nvPr>
            <p:ph type="dt" idx="1"/>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A42B9-2BD0-499D-88BC-89817BFDCA05}" type="datetime">
              <a:rPr b="1" lang="en-US" sz="1100" spc="-1" strike="noStrike">
                <a:solidFill>
                  <a:srgbClr val="a6a6a6"/>
                </a:solidFill>
                <a:latin typeface="Corbel"/>
              </a:rPr>
              <a:t>07/29/26</a:t>
            </a:fld>
            <a:endParaRPr b="0" lang="en-US" sz="1100" spc="-1" strike="noStrike">
              <a:solidFill>
                <a:srgbClr val="ffffff"/>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4" name="PlaceHolder 5"/>
          <p:cNvSpPr>
            <a:spLocks noGrp="1"/>
          </p:cNvSpPr>
          <p:nvPr>
            <p:ph type="sldNum" idx="3"/>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E73D1-1687-4283-B702-EB2CB30671ED}"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0" name="Group 11"/>
          <p:cNvGrpSpPr/>
          <p:nvPr/>
        </p:nvGrpSpPr>
        <p:grpSpPr>
          <a:xfrm>
            <a:off x="228600" y="228240"/>
            <a:ext cx="4251240" cy="6388200"/>
            <a:chOff x="228600" y="228240"/>
            <a:chExt cx="4251240" cy="6388200"/>
          </a:xfrm>
        </p:grpSpPr>
        <p:sp>
          <p:nvSpPr>
            <p:cNvPr id="391" name="Snip Diagonal Corner Rectangle 7"/>
            <p:cNvSpPr/>
            <p:nvPr/>
          </p:nvSpPr>
          <p:spPr>
            <a:xfrm flipV="1">
              <a:off x="228600" y="227520"/>
              <a:ext cx="4251240" cy="6388200"/>
            </a:xfrm>
            <a:custGeom>
              <a:avLst/>
              <a:gdLst>
                <a:gd name="textAreaLeft" fmla="*/ 80640 w 4251240"/>
                <a:gd name="textAreaRight" fmla="*/ 4170600 w 4251240"/>
                <a:gd name="textAreaTop" fmla="*/ 80640 h 6388200"/>
                <a:gd name="textAreaBottom" fmla="*/ 6307560 h 6388200"/>
              </a:gdLst>
              <a:ahLst/>
              <a:rect l="textAreaLeft" t="textAreaTop" r="textAreaRight" b="textAreaBottom"/>
              <a:pathLst>
                <a:path w="4251960" h="6387352">
                  <a:moveTo>
                    <a:pt x="0" y="0"/>
                  </a:moveTo>
                  <a:lnTo>
                    <a:pt x="4090641" y="0"/>
                  </a:lnTo>
                  <a:lnTo>
                    <a:pt x="4251960" y="161319"/>
                  </a:lnTo>
                  <a:lnTo>
                    <a:pt x="4251960" y="6387352"/>
                  </a:lnTo>
                  <a:lnTo>
                    <a:pt x="161319" y="6387352"/>
                  </a:lnTo>
                  <a:lnTo>
                    <a:pt x="0" y="6226033"/>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392" name="Teardrop 8"/>
            <p:cNvSpPr/>
            <p:nvPr/>
          </p:nvSpPr>
          <p:spPr>
            <a:xfrm>
              <a:off x="3886200" y="431640"/>
              <a:ext cx="353880" cy="355320"/>
            </a:xfrm>
            <a:custGeom>
              <a:avLst/>
              <a:gdLst>
                <a:gd name="textAreaLeft" fmla="*/ 51840 w 353880"/>
                <a:gd name="textAreaRight" fmla="*/ 302040 w 353880"/>
                <a:gd name="textAreaTop" fmla="*/ 51840 h 355320"/>
                <a:gd name="textAreaBottom" fmla="*/ 303480 h 355320"/>
              </a:gdLst>
              <a:ahLst/>
              <a:rect l="textAreaLeft" t="textAreaTop" r="textAreaRight" b="textAreaBottom"/>
              <a:pathLst>
                <a:path w="354066" h="355558">
                  <a:moveTo>
                    <a:pt x="0" y="177779"/>
                  </a:moveTo>
                  <a:lnTo>
                    <a:pt x="0" y="177779"/>
                  </a:lnTo>
                  <a:arcTo wR="177033" hR="177779" stAng="10800000" swAng="5400000"/>
                  <a:lnTo>
                    <a:pt x="265549" y="0"/>
                  </a:lnTo>
                  <a:lnTo>
                    <a:pt x="354066" y="0"/>
                  </a:lnTo>
                  <a:lnTo>
                    <a:pt x="354066" y="133334"/>
                  </a:lnTo>
                  <a:arcTo wR="0" hR="44445" stAng="0" swAng="0"/>
                  <a:lnTo>
                    <a:pt x="328140" y="329523"/>
                  </a:lnTo>
                  <a:arcTo wR="-88517" hR="88890" stAng="2707228" swAng="10800000"/>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grpSp>
      <p:sp>
        <p:nvSpPr>
          <p:cNvPr id="393" name="Snip Diagonal Corner Rectangle 9"/>
          <p:cNvSpPr/>
          <p:nvPr/>
        </p:nvSpPr>
        <p:spPr>
          <a:xfrm flipV="1">
            <a:off x="4648320" y="227520"/>
            <a:ext cx="4251240" cy="6388200"/>
          </a:xfrm>
          <a:custGeom>
            <a:avLst/>
            <a:gdLst>
              <a:gd name="textAreaLeft" fmla="*/ 80640 w 4251240"/>
              <a:gd name="textAreaRight" fmla="*/ 4170600 w 4251240"/>
              <a:gd name="textAreaTop" fmla="*/ 80640 h 6388200"/>
              <a:gd name="textAreaBottom" fmla="*/ 6307560 h 6388200"/>
            </a:gdLst>
            <a:ahLst/>
            <a:rect l="textAreaLeft" t="textAreaTop" r="textAreaRight" b="textAreaBottom"/>
            <a:pathLst>
              <a:path w="4251325" h="6388100">
                <a:moveTo>
                  <a:pt x="0" y="0"/>
                </a:moveTo>
                <a:lnTo>
                  <a:pt x="4090030" y="0"/>
                </a:lnTo>
                <a:lnTo>
                  <a:pt x="4251325" y="161295"/>
                </a:lnTo>
                <a:lnTo>
                  <a:pt x="4251325" y="6388100"/>
                </a:lnTo>
                <a:lnTo>
                  <a:pt x="161295" y="6388100"/>
                </a:lnTo>
                <a:lnTo>
                  <a:pt x="0" y="6226805"/>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3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9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96" name="PlaceHolder 3"/>
          <p:cNvSpPr>
            <a:spLocks noGrp="1"/>
          </p:cNvSpPr>
          <p:nvPr>
            <p:ph type="dt" idx="25"/>
          </p:nvPr>
        </p:nvSpPr>
        <p:spPr>
          <a:xfrm>
            <a:off x="762120" y="6297120"/>
            <a:ext cx="129528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44757-ED66-4871-931A-515A3CC6293F}" type="datetime">
              <a:rPr b="1" lang="en-US" sz="1100" spc="-1" strike="noStrike">
                <a:solidFill>
                  <a:srgbClr val="a6a6a6"/>
                </a:solidFill>
                <a:latin typeface="Corbel"/>
              </a:rPr>
              <a:t>07/29/26</a:t>
            </a:fld>
            <a:endParaRPr b="0" lang="en-US" sz="1100" spc="-1" strike="noStrike">
              <a:solidFill>
                <a:srgbClr val="ffffff"/>
              </a:solidFill>
              <a:latin typeface="Times New Roman"/>
            </a:endParaRPr>
          </a:p>
        </p:txBody>
      </p:sp>
      <p:sp>
        <p:nvSpPr>
          <p:cNvPr id="397" name="PlaceHolder 4"/>
          <p:cNvSpPr>
            <a:spLocks noGrp="1"/>
          </p:cNvSpPr>
          <p:nvPr>
            <p:ph type="ftr" idx="26"/>
          </p:nvPr>
        </p:nvSpPr>
        <p:spPr>
          <a:xfrm>
            <a:off x="2057400" y="6297120"/>
            <a:ext cx="23400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398" name="PlaceHolder 5"/>
          <p:cNvSpPr>
            <a:spLocks noGrp="1"/>
          </p:cNvSpPr>
          <p:nvPr>
            <p:ph type="sldNum" idx="27"/>
          </p:nvPr>
        </p:nvSpPr>
        <p:spPr>
          <a:xfrm>
            <a:off x="304920" y="6297120"/>
            <a:ext cx="44424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A7233-3D07-47C4-9B09-5153423E21FD}"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5" name="Group 10"/>
          <p:cNvGrpSpPr/>
          <p:nvPr/>
        </p:nvGrpSpPr>
        <p:grpSpPr>
          <a:xfrm>
            <a:off x="228600" y="228240"/>
            <a:ext cx="4251240" cy="6388200"/>
            <a:chOff x="228600" y="228240"/>
            <a:chExt cx="4251240" cy="6388200"/>
          </a:xfrm>
        </p:grpSpPr>
        <p:sp>
          <p:nvSpPr>
            <p:cNvPr id="436" name="Snip Diagonal Corner Rectangle 7"/>
            <p:cNvSpPr/>
            <p:nvPr/>
          </p:nvSpPr>
          <p:spPr>
            <a:xfrm flipV="1">
              <a:off x="228600" y="227520"/>
              <a:ext cx="4251240" cy="6388200"/>
            </a:xfrm>
            <a:custGeom>
              <a:avLst/>
              <a:gdLst>
                <a:gd name="textAreaLeft" fmla="*/ 80640 w 4251240"/>
                <a:gd name="textAreaRight" fmla="*/ 4170600 w 4251240"/>
                <a:gd name="textAreaTop" fmla="*/ 80640 h 6388200"/>
                <a:gd name="textAreaBottom" fmla="*/ 6307560 h 6388200"/>
              </a:gdLst>
              <a:ahLst/>
              <a:rect l="textAreaLeft" t="textAreaTop" r="textAreaRight" b="textAreaBottom"/>
              <a:pathLst>
                <a:path w="4251960" h="6387352">
                  <a:moveTo>
                    <a:pt x="0" y="0"/>
                  </a:moveTo>
                  <a:lnTo>
                    <a:pt x="4090641" y="0"/>
                  </a:lnTo>
                  <a:lnTo>
                    <a:pt x="4251960" y="161319"/>
                  </a:lnTo>
                  <a:lnTo>
                    <a:pt x="4251960" y="6387352"/>
                  </a:lnTo>
                  <a:lnTo>
                    <a:pt x="161319" y="6387352"/>
                  </a:lnTo>
                  <a:lnTo>
                    <a:pt x="0" y="6226033"/>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437" name="Teardrop 8"/>
            <p:cNvSpPr/>
            <p:nvPr/>
          </p:nvSpPr>
          <p:spPr>
            <a:xfrm>
              <a:off x="3886200" y="431640"/>
              <a:ext cx="353880" cy="355320"/>
            </a:xfrm>
            <a:custGeom>
              <a:avLst/>
              <a:gdLst>
                <a:gd name="textAreaLeft" fmla="*/ 51840 w 353880"/>
                <a:gd name="textAreaRight" fmla="*/ 302040 w 353880"/>
                <a:gd name="textAreaTop" fmla="*/ 51840 h 355320"/>
                <a:gd name="textAreaBottom" fmla="*/ 303480 h 355320"/>
              </a:gdLst>
              <a:ahLst/>
              <a:rect l="textAreaLeft" t="textAreaTop" r="textAreaRight" b="textAreaBottom"/>
              <a:pathLst>
                <a:path w="354066" h="355558">
                  <a:moveTo>
                    <a:pt x="0" y="177779"/>
                  </a:moveTo>
                  <a:lnTo>
                    <a:pt x="0" y="177779"/>
                  </a:lnTo>
                  <a:arcTo wR="177033" hR="177779" stAng="10800000" swAng="5400000"/>
                  <a:lnTo>
                    <a:pt x="265549" y="0"/>
                  </a:lnTo>
                  <a:lnTo>
                    <a:pt x="354066" y="0"/>
                  </a:lnTo>
                  <a:lnTo>
                    <a:pt x="354066" y="133334"/>
                  </a:lnTo>
                  <a:arcTo wR="0" hR="44445" stAng="0" swAng="0"/>
                  <a:lnTo>
                    <a:pt x="328140" y="329523"/>
                  </a:lnTo>
                  <a:arcTo wR="-88517" hR="88890" stAng="2707228" swAng="10800000"/>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grpSp>
      <p:sp>
        <p:nvSpPr>
          <p:cNvPr id="4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3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40" name="PlaceHolder 3"/>
          <p:cNvSpPr>
            <a:spLocks noGrp="1"/>
          </p:cNvSpPr>
          <p:nvPr>
            <p:ph type="dt" idx="28"/>
          </p:nvPr>
        </p:nvSpPr>
        <p:spPr>
          <a:xfrm>
            <a:off x="758520" y="63007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D48C34-75EB-4A41-9F75-D5FA26819593}" type="datetime">
              <a:rPr b="1" lang="en-US" sz="1100" spc="-1" strike="noStrike">
                <a:solidFill>
                  <a:srgbClr val="a6a6a6"/>
                </a:solidFill>
                <a:latin typeface="Corbel"/>
              </a:rPr>
              <a:t>07/29/26</a:t>
            </a:fld>
            <a:endParaRPr b="0" lang="en-US" sz="1100" spc="-1" strike="noStrike">
              <a:solidFill>
                <a:srgbClr val="ffffff"/>
              </a:solidFill>
              <a:latin typeface="Times New Roman"/>
            </a:endParaRPr>
          </a:p>
        </p:txBody>
      </p:sp>
      <p:sp>
        <p:nvSpPr>
          <p:cNvPr id="441" name="PlaceHolder 4"/>
          <p:cNvSpPr>
            <a:spLocks noGrp="1"/>
          </p:cNvSpPr>
          <p:nvPr>
            <p:ph type="ftr" idx="29"/>
          </p:nvPr>
        </p:nvSpPr>
        <p:spPr>
          <a:xfrm>
            <a:off x="2057400" y="6300720"/>
            <a:ext cx="2341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442" name="PlaceHolder 5"/>
          <p:cNvSpPr>
            <a:spLocks noGrp="1"/>
          </p:cNvSpPr>
          <p:nvPr>
            <p:ph type="sldNum" idx="30"/>
          </p:nvPr>
        </p:nvSpPr>
        <p:spPr>
          <a:xfrm>
            <a:off x="301320" y="6300720"/>
            <a:ext cx="44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5C176-D8D5-4543-9709-2E6B72A05295}"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9" name="Snip Diagonal Corner Rectangle 6"/>
          <p:cNvSpPr/>
          <p:nvPr/>
        </p:nvSpPr>
        <p:spPr>
          <a:xfrm flipV="1">
            <a:off x="228600" y="4647960"/>
            <a:ext cx="8686800" cy="1963440"/>
          </a:xfrm>
          <a:custGeom>
            <a:avLst/>
            <a:gdLst>
              <a:gd name="textAreaLeft" fmla="*/ 91800 w 8686800"/>
              <a:gd name="textAreaRight" fmla="*/ 8595000 w 8686800"/>
              <a:gd name="textAreaTop" fmla="*/ 91800 h 1963440"/>
              <a:gd name="textAreaBottom" fmla="*/ 1871640 h 1963440"/>
            </a:gdLst>
            <a:ahLst/>
            <a:rect l="textAreaLeft" t="textAreaTop" r="textAreaRight" b="textAreaBottom"/>
            <a:pathLst>
              <a:path w="8686800" h="1963738">
                <a:moveTo>
                  <a:pt x="0" y="0"/>
                </a:moveTo>
                <a:lnTo>
                  <a:pt x="8502739" y="0"/>
                </a:lnTo>
                <a:lnTo>
                  <a:pt x="8686800" y="184061"/>
                </a:lnTo>
                <a:lnTo>
                  <a:pt x="8686800" y="1963738"/>
                </a:lnTo>
                <a:lnTo>
                  <a:pt x="184061" y="1963738"/>
                </a:lnTo>
                <a:lnTo>
                  <a:pt x="0" y="1779677"/>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48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8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2" name="PlaceHolder 3"/>
          <p:cNvSpPr>
            <a:spLocks noGrp="1"/>
          </p:cNvSpPr>
          <p:nvPr>
            <p:ph type="dt" idx="31"/>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B62E0-F4C6-4217-B272-2DFFDA33345C}" type="datetime">
              <a:rPr b="1" lang="en-US" sz="1100" spc="-1" strike="noStrike">
                <a:solidFill>
                  <a:srgbClr val="a6a6a6"/>
                </a:solidFill>
                <a:latin typeface="Corbel"/>
              </a:rPr>
              <a:t>07/29/26</a:t>
            </a:fld>
            <a:endParaRPr b="0" lang="en-US" sz="1100" spc="-1" strike="noStrike">
              <a:solidFill>
                <a:srgbClr val="ffffff"/>
              </a:solidFill>
              <a:latin typeface="Times New Roman"/>
            </a:endParaRPr>
          </a:p>
        </p:txBody>
      </p:sp>
      <p:sp>
        <p:nvSpPr>
          <p:cNvPr id="48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484" name="PlaceHolder 5"/>
          <p:cNvSpPr>
            <a:spLocks noGrp="1"/>
          </p:cNvSpPr>
          <p:nvPr>
            <p:ph type="sldNum" idx="33"/>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12898-1E84-4515-AF33-6CBEAD1034CE}"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Snip Diagonal Corner Rectangle 6"/>
          <p:cNvSpPr/>
          <p:nvPr/>
        </p:nvSpPr>
        <p:spPr>
          <a:xfrm flipV="1">
            <a:off x="228600" y="1707120"/>
            <a:ext cx="8686800" cy="4908600"/>
          </a:xfrm>
          <a:custGeom>
            <a:avLst/>
            <a:gdLst>
              <a:gd name="textAreaLeft" fmla="*/ 97920 w 8686800"/>
              <a:gd name="textAreaRight" fmla="*/ 8588880 w 8686800"/>
              <a:gd name="textAreaTop" fmla="*/ 97920 h 4908600"/>
              <a:gd name="textAreaBottom" fmla="*/ 4810680 h 4908600"/>
            </a:gdLst>
            <a:ahLst/>
            <a:rect l="textAreaLeft" t="textAreaTop" r="textAreaRight" b="textAreaBottom"/>
            <a:pathLst>
              <a:path w="8686800" h="4908550">
                <a:moveTo>
                  <a:pt x="0" y="0"/>
                </a:moveTo>
                <a:lnTo>
                  <a:pt x="8490311" y="0"/>
                </a:lnTo>
                <a:lnTo>
                  <a:pt x="8686800" y="196489"/>
                </a:lnTo>
                <a:lnTo>
                  <a:pt x="8686800" y="4908550"/>
                </a:lnTo>
                <a:lnTo>
                  <a:pt x="196489" y="4908550"/>
                </a:lnTo>
                <a:lnTo>
                  <a:pt x="0" y="4712061"/>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522" name="Snip Diagonal Corner Rectangle 7"/>
          <p:cNvSpPr/>
          <p:nvPr/>
        </p:nvSpPr>
        <p:spPr>
          <a:xfrm flipV="1">
            <a:off x="228600" y="228240"/>
            <a:ext cx="8686800" cy="1278000"/>
          </a:xfrm>
          <a:custGeom>
            <a:avLst/>
            <a:gdLst>
              <a:gd name="textAreaLeft" fmla="*/ 74520 w 8686800"/>
              <a:gd name="textAreaRight" fmla="*/ 8612280 w 8686800"/>
              <a:gd name="textAreaTop" fmla="*/ 74520 h 1278000"/>
              <a:gd name="textAreaBottom" fmla="*/ 1203480 h 1278000"/>
            </a:gdLst>
            <a:ahLst/>
            <a:rect l="textAreaLeft" t="textAreaTop" r="textAreaRight" b="textAreaBottom"/>
            <a:pathLst>
              <a:path w="8686800" h="1277938">
                <a:moveTo>
                  <a:pt x="0" y="0"/>
                </a:moveTo>
                <a:lnTo>
                  <a:pt x="8537614" y="0"/>
                </a:lnTo>
                <a:lnTo>
                  <a:pt x="8686800" y="149186"/>
                </a:lnTo>
                <a:lnTo>
                  <a:pt x="8686800" y="1277938"/>
                </a:lnTo>
                <a:lnTo>
                  <a:pt x="149186" y="1277938"/>
                </a:lnTo>
                <a:lnTo>
                  <a:pt x="0" y="1128752"/>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5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24"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25" name="PlaceHolder 3"/>
          <p:cNvSpPr>
            <a:spLocks noGrp="1"/>
          </p:cNvSpPr>
          <p:nvPr>
            <p:ph type="dt" idx="34"/>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9F589-F011-4292-92E5-25D4A2429E2E}" type="datetime">
              <a:rPr b="1" lang="en-US" sz="1100" spc="-1" strike="noStrike">
                <a:solidFill>
                  <a:srgbClr val="a6a6a6"/>
                </a:solidFill>
                <a:latin typeface="Corbel"/>
              </a:rPr>
              <a:t>07/29/26</a:t>
            </a:fld>
            <a:endParaRPr b="0" lang="en-US" sz="1100" spc="-1" strike="noStrike">
              <a:solidFill>
                <a:srgbClr val="ffffff"/>
              </a:solidFill>
              <a:latin typeface="Times New Roman"/>
            </a:endParaRPr>
          </a:p>
        </p:txBody>
      </p:sp>
      <p:sp>
        <p:nvSpPr>
          <p:cNvPr id="526"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527" name="PlaceHolder 5"/>
          <p:cNvSpPr>
            <a:spLocks noGrp="1"/>
          </p:cNvSpPr>
          <p:nvPr>
            <p:ph type="sldNum" idx="36"/>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BFA9D-F373-49CD-8D2B-1452CA3239FA}"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Snip Diagonal Corner Rectangle 6"/>
          <p:cNvSpPr/>
          <p:nvPr/>
        </p:nvSpPr>
        <p:spPr>
          <a:xfrm flipV="1">
            <a:off x="228600" y="227520"/>
            <a:ext cx="8686800" cy="6388200"/>
          </a:xfrm>
          <a:custGeom>
            <a:avLst/>
            <a:gdLst>
              <a:gd name="textAreaLeft" fmla="*/ 80640 w 8686800"/>
              <a:gd name="textAreaRight" fmla="*/ 8606160 w 8686800"/>
              <a:gd name="textAreaTop" fmla="*/ 80640 h 6388200"/>
              <a:gd name="textAreaBottom" fmla="*/ 6307560 h 6388200"/>
            </a:gdLst>
            <a:ahLst/>
            <a:rect l="textAreaLeft" t="textAreaTop" r="textAreaRight" b="textAreaBottom"/>
            <a:pathLst>
              <a:path w="8686800" h="6388100">
                <a:moveTo>
                  <a:pt x="0" y="0"/>
                </a:moveTo>
                <a:lnTo>
                  <a:pt x="8525245" y="0"/>
                </a:lnTo>
                <a:lnTo>
                  <a:pt x="8686800" y="161555"/>
                </a:lnTo>
                <a:lnTo>
                  <a:pt x="8686800" y="6388100"/>
                </a:lnTo>
                <a:lnTo>
                  <a:pt x="161555" y="6388100"/>
                </a:lnTo>
                <a:lnTo>
                  <a:pt x="0" y="6226545"/>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56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66"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67" name="PlaceHolder 3"/>
          <p:cNvSpPr>
            <a:spLocks noGrp="1"/>
          </p:cNvSpPr>
          <p:nvPr>
            <p:ph type="dt" idx="37"/>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DAEC2-2251-4D95-9B8B-84BC50BE193C}" type="datetime">
              <a:rPr b="1" lang="en-US" sz="1100" spc="-1" strike="noStrike">
                <a:solidFill>
                  <a:srgbClr val="a6a6a6"/>
                </a:solidFill>
                <a:latin typeface="Corbel"/>
              </a:rPr>
              <a:t>07/29/26</a:t>
            </a:fld>
            <a:endParaRPr b="0" lang="en-US" sz="1100" spc="-1" strike="noStrike">
              <a:solidFill>
                <a:srgbClr val="ffffff"/>
              </a:solidFill>
              <a:latin typeface="Times New Roman"/>
            </a:endParaRPr>
          </a:p>
        </p:txBody>
      </p:sp>
      <p:sp>
        <p:nvSpPr>
          <p:cNvPr id="568"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569" name="PlaceHolder 5"/>
          <p:cNvSpPr>
            <a:spLocks noGrp="1"/>
          </p:cNvSpPr>
          <p:nvPr>
            <p:ph type="sldNum" idx="39"/>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818A6-A574-4B42-B7A4-DD7CF7CCBC30}"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0"/>
          <p:cNvGrpSpPr/>
          <p:nvPr/>
        </p:nvGrpSpPr>
        <p:grpSpPr>
          <a:xfrm>
            <a:off x="0" y="3379680"/>
            <a:ext cx="7543800" cy="2603160"/>
            <a:chOff x="0" y="3379680"/>
            <a:chExt cx="7543800" cy="2603160"/>
          </a:xfrm>
        </p:grpSpPr>
        <p:grpSp>
          <p:nvGrpSpPr>
            <p:cNvPr id="42" name="Group 11"/>
            <p:cNvGrpSpPr/>
            <p:nvPr/>
          </p:nvGrpSpPr>
          <p:grpSpPr>
            <a:xfrm>
              <a:off x="0" y="3379680"/>
              <a:ext cx="7543800" cy="2603160"/>
              <a:chOff x="0" y="3379680"/>
              <a:chExt cx="7543800" cy="2603160"/>
            </a:xfrm>
          </p:grpSpPr>
          <p:sp>
            <p:nvSpPr>
              <p:cNvPr id="43" name="Snip Single Corner Rectangle 9"/>
              <p:cNvSpPr/>
              <p:nvPr/>
            </p:nvSpPr>
            <p:spPr>
              <a:xfrm flipV="1">
                <a:off x="0" y="3391200"/>
                <a:ext cx="7543800" cy="2590920"/>
              </a:xfrm>
              <a:custGeom>
                <a:avLst/>
                <a:gdLst>
                  <a:gd name="textAreaLeft" fmla="*/ 0 w 7543800"/>
                  <a:gd name="textAreaRight" fmla="*/ 7448400 w 7543800"/>
                  <a:gd name="textAreaTop" fmla="*/ 95400 h 2590920"/>
                  <a:gd name="textAreaBottom" fmla="*/ 2591280 h 2590920"/>
                </a:gdLst>
                <a:ahLst/>
                <a:rect l="textAreaLeft" t="textAreaTop" r="textAreaRight" b="textAreaBottom"/>
                <a:pathLst>
                  <a:path w="7543801" h="2591543">
                    <a:moveTo>
                      <a:pt x="0" y="0"/>
                    </a:moveTo>
                    <a:lnTo>
                      <a:pt x="7352571" y="0"/>
                    </a:lnTo>
                    <a:lnTo>
                      <a:pt x="7543801" y="191230"/>
                    </a:lnTo>
                    <a:lnTo>
                      <a:pt x="7543801" y="2591543"/>
                    </a:lnTo>
                    <a:lnTo>
                      <a:pt x="0" y="2591543"/>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44" name="Straight Connector 10"/>
              <p:cNvSpPr/>
              <p:nvPr/>
            </p:nvSpPr>
            <p:spPr>
              <a:xfrm>
                <a:off x="0" y="3379680"/>
                <a:ext cx="7543800" cy="1440"/>
              </a:xfrm>
              <a:prstGeom prst="line">
                <a:avLst/>
              </a:prstGeom>
              <a:ln w="28440">
                <a:solidFill>
                  <a:srgbClr val="ff7f01"/>
                </a:solidFill>
                <a:miter/>
              </a:ln>
            </p:spPr>
            <p:style>
              <a:lnRef idx="0"/>
              <a:fillRef idx="0"/>
              <a:effectRef idx="0"/>
              <a:fontRef idx="minor"/>
            </p:style>
            <p:txBody>
              <a:bodyPr lIns="90000" rIns="90000" tIns="-45360" bIns="-45360" anchor="t">
                <a:noAutofit/>
              </a:bodyPr>
              <a:p>
                <a:endParaRPr b="0" lang="en-US" sz="1800" spc="-1" strike="noStrike">
                  <a:solidFill>
                    <a:srgbClr val="103154"/>
                  </a:solidFill>
                  <a:latin typeface="Arial"/>
                </a:endParaRPr>
              </a:p>
            </p:txBody>
          </p:sp>
        </p:grpSp>
        <p:sp>
          <p:nvSpPr>
            <p:cNvPr id="45" name="Teardrop 8"/>
            <p:cNvSpPr/>
            <p:nvPr/>
          </p:nvSpPr>
          <p:spPr>
            <a:xfrm>
              <a:off x="6818400" y="3620880"/>
              <a:ext cx="393480" cy="395280"/>
            </a:xfrm>
            <a:custGeom>
              <a:avLst/>
              <a:gdLst>
                <a:gd name="textAreaLeft" fmla="*/ 57600 w 393480"/>
                <a:gd name="textAreaRight" fmla="*/ 335880 w 393480"/>
                <a:gd name="textAreaTop" fmla="*/ 57600 h 395280"/>
                <a:gd name="textAreaBottom" fmla="*/ 337680 h 395280"/>
              </a:gdLst>
              <a:ahLst/>
              <a:rect l="textAreaLeft" t="textAreaTop" r="textAreaRight" b="textAreaBottom"/>
              <a:pathLst>
                <a:path w="393700" h="395400">
                  <a:moveTo>
                    <a:pt x="0" y="197700"/>
                  </a:moveTo>
                  <a:lnTo>
                    <a:pt x="0" y="197700"/>
                  </a:lnTo>
                  <a:arcTo wR="196850" hR="197700" stAng="10800000" swAng="5400000"/>
                  <a:lnTo>
                    <a:pt x="295275" y="0"/>
                  </a:lnTo>
                  <a:lnTo>
                    <a:pt x="393700" y="0"/>
                  </a:lnTo>
                  <a:lnTo>
                    <a:pt x="393700" y="148275"/>
                  </a:lnTo>
                  <a:arcTo wR="0" hR="49425" stAng="0" swAng="0"/>
                  <a:lnTo>
                    <a:pt x="364872" y="366448"/>
                  </a:lnTo>
                  <a:arcTo wR="-98425" hR="98850" stAng="2707406" swAng="10800000"/>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grpSp>
      <p:sp>
        <p:nvSpPr>
          <p:cNvPr id="4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7"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 name="PlaceHolder 3"/>
          <p:cNvSpPr>
            <a:spLocks noGrp="1"/>
          </p:cNvSpPr>
          <p:nvPr>
            <p:ph type="dt" idx="4"/>
          </p:nvPr>
        </p:nvSpPr>
        <p:spPr>
          <a:xfrm rot="16200000">
            <a:off x="-733320" y="4503600"/>
            <a:ext cx="2057400" cy="36504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5790D-1139-44D2-A455-C312F3935D21}" type="datetime">
              <a:rPr b="1" lang="en-US" sz="1400" spc="-1" strike="noStrike">
                <a:solidFill>
                  <a:srgbClr val="7f7f7f"/>
                </a:solidFill>
                <a:latin typeface="Corbel"/>
              </a:rPr>
              <a:t>07/29/26</a:t>
            </a:fld>
            <a:endParaRPr b="0" lang="en-US" sz="1400" spc="-1" strike="noStrike">
              <a:solidFill>
                <a:srgbClr val="ffffff"/>
              </a:solidFill>
              <a:latin typeface="Times New Roman"/>
            </a:endParaRPr>
          </a:p>
        </p:txBody>
      </p:sp>
      <p:sp>
        <p:nvSpPr>
          <p:cNvPr id="49" name="PlaceHolder 4"/>
          <p:cNvSpPr>
            <a:spLocks noGrp="1"/>
          </p:cNvSpPr>
          <p:nvPr>
            <p:ph type="ftr" idx="5"/>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Snip Diagonal Corner Rectangle 6"/>
          <p:cNvSpPr/>
          <p:nvPr/>
        </p:nvSpPr>
        <p:spPr>
          <a:xfrm flipV="1">
            <a:off x="228600" y="1707120"/>
            <a:ext cx="8686800" cy="4908600"/>
          </a:xfrm>
          <a:custGeom>
            <a:avLst/>
            <a:gdLst>
              <a:gd name="textAreaLeft" fmla="*/ 97920 w 8686800"/>
              <a:gd name="textAreaRight" fmla="*/ 8588880 w 8686800"/>
              <a:gd name="textAreaTop" fmla="*/ 97920 h 4908600"/>
              <a:gd name="textAreaBottom" fmla="*/ 4810680 h 4908600"/>
            </a:gdLst>
            <a:ahLst/>
            <a:rect l="textAreaLeft" t="textAreaTop" r="textAreaRight" b="textAreaBottom"/>
            <a:pathLst>
              <a:path w="8686800" h="4908550">
                <a:moveTo>
                  <a:pt x="0" y="0"/>
                </a:moveTo>
                <a:lnTo>
                  <a:pt x="8490311" y="0"/>
                </a:lnTo>
                <a:lnTo>
                  <a:pt x="8686800" y="196489"/>
                </a:lnTo>
                <a:lnTo>
                  <a:pt x="8686800" y="4908550"/>
                </a:lnTo>
                <a:lnTo>
                  <a:pt x="196489" y="4908550"/>
                </a:lnTo>
                <a:lnTo>
                  <a:pt x="0" y="4712061"/>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87" name="Snip Diagonal Corner Rectangle 7"/>
          <p:cNvSpPr/>
          <p:nvPr/>
        </p:nvSpPr>
        <p:spPr>
          <a:xfrm flipV="1">
            <a:off x="228600" y="228240"/>
            <a:ext cx="8686800" cy="1278000"/>
          </a:xfrm>
          <a:custGeom>
            <a:avLst/>
            <a:gdLst>
              <a:gd name="textAreaLeft" fmla="*/ 74520 w 8686800"/>
              <a:gd name="textAreaRight" fmla="*/ 8612280 w 8686800"/>
              <a:gd name="textAreaTop" fmla="*/ 74520 h 1278000"/>
              <a:gd name="textAreaBottom" fmla="*/ 1203480 h 1278000"/>
            </a:gdLst>
            <a:ahLst/>
            <a:rect l="textAreaLeft" t="textAreaTop" r="textAreaRight" b="textAreaBottom"/>
            <a:pathLst>
              <a:path w="8686800" h="1277938">
                <a:moveTo>
                  <a:pt x="0" y="0"/>
                </a:moveTo>
                <a:lnTo>
                  <a:pt x="8537614" y="0"/>
                </a:lnTo>
                <a:lnTo>
                  <a:pt x="8686800" y="149186"/>
                </a:lnTo>
                <a:lnTo>
                  <a:pt x="8686800" y="1277938"/>
                </a:lnTo>
                <a:lnTo>
                  <a:pt x="149186" y="1277938"/>
                </a:lnTo>
                <a:lnTo>
                  <a:pt x="0" y="1128752"/>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8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8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90" name="PlaceHolder 3"/>
          <p:cNvSpPr>
            <a:spLocks noGrp="1"/>
          </p:cNvSpPr>
          <p:nvPr>
            <p:ph type="dt" idx="6"/>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F0605-ADF6-4197-9867-D14749A9CA17}" type="datetime">
              <a:rPr b="1" lang="en-US" sz="1100" spc="-1" strike="noStrike">
                <a:solidFill>
                  <a:srgbClr val="a6a6a6"/>
                </a:solidFill>
                <a:latin typeface="Corbel"/>
              </a:rPr>
              <a:t>07/29/26</a:t>
            </a:fld>
            <a:endParaRPr b="0" lang="en-US" sz="1100" spc="-1" strike="noStrike">
              <a:solidFill>
                <a:srgbClr val="ffffff"/>
              </a:solidFill>
              <a:latin typeface="Times New Roman"/>
            </a:endParaRPr>
          </a:p>
        </p:txBody>
      </p:sp>
      <p:sp>
        <p:nvSpPr>
          <p:cNvPr id="91" name="PlaceHolder 4"/>
          <p:cNvSpPr>
            <a:spLocks noGrp="1"/>
          </p:cNvSpPr>
          <p:nvPr>
            <p:ph type="ftr" idx="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92" name="PlaceHolder 5"/>
          <p:cNvSpPr>
            <a:spLocks noGrp="1"/>
          </p:cNvSpPr>
          <p:nvPr>
            <p:ph type="sldNum" idx="8"/>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AFB09-727F-4F31-B941-7F88C853744E}"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9" name="Group 14"/>
          <p:cNvGrpSpPr/>
          <p:nvPr/>
        </p:nvGrpSpPr>
        <p:grpSpPr>
          <a:xfrm>
            <a:off x="0" y="3379680"/>
            <a:ext cx="7543800" cy="2603160"/>
            <a:chOff x="0" y="3379680"/>
            <a:chExt cx="7543800" cy="2603160"/>
          </a:xfrm>
        </p:grpSpPr>
        <p:grpSp>
          <p:nvGrpSpPr>
            <p:cNvPr id="130" name="Group 11"/>
            <p:cNvGrpSpPr/>
            <p:nvPr/>
          </p:nvGrpSpPr>
          <p:grpSpPr>
            <a:xfrm>
              <a:off x="0" y="3379680"/>
              <a:ext cx="7543800" cy="2603160"/>
              <a:chOff x="0" y="3379680"/>
              <a:chExt cx="7543800" cy="2603160"/>
            </a:xfrm>
          </p:grpSpPr>
          <p:sp>
            <p:nvSpPr>
              <p:cNvPr id="131" name="Snip Single Corner Rectangle 9"/>
              <p:cNvSpPr/>
              <p:nvPr/>
            </p:nvSpPr>
            <p:spPr>
              <a:xfrm flipV="1">
                <a:off x="0" y="3391200"/>
                <a:ext cx="7543800" cy="2590920"/>
              </a:xfrm>
              <a:custGeom>
                <a:avLst/>
                <a:gdLst>
                  <a:gd name="textAreaLeft" fmla="*/ 0 w 7543800"/>
                  <a:gd name="textAreaRight" fmla="*/ 7448400 w 7543800"/>
                  <a:gd name="textAreaTop" fmla="*/ 95400 h 2590920"/>
                  <a:gd name="textAreaBottom" fmla="*/ 2591280 h 2590920"/>
                </a:gdLst>
                <a:ahLst/>
                <a:rect l="textAreaLeft" t="textAreaTop" r="textAreaRight" b="textAreaBottom"/>
                <a:pathLst>
                  <a:path w="7543801" h="2591543">
                    <a:moveTo>
                      <a:pt x="0" y="0"/>
                    </a:moveTo>
                    <a:lnTo>
                      <a:pt x="7352571" y="0"/>
                    </a:lnTo>
                    <a:lnTo>
                      <a:pt x="7543801" y="191230"/>
                    </a:lnTo>
                    <a:lnTo>
                      <a:pt x="7543801" y="2591543"/>
                    </a:lnTo>
                    <a:lnTo>
                      <a:pt x="0" y="2591543"/>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132" name="Straight Connector 10"/>
              <p:cNvSpPr/>
              <p:nvPr/>
            </p:nvSpPr>
            <p:spPr>
              <a:xfrm>
                <a:off x="0" y="3379680"/>
                <a:ext cx="7543800" cy="1440"/>
              </a:xfrm>
              <a:prstGeom prst="line">
                <a:avLst/>
              </a:prstGeom>
              <a:ln w="28440">
                <a:solidFill>
                  <a:srgbClr val="ff7f01"/>
                </a:solidFill>
                <a:miter/>
              </a:ln>
            </p:spPr>
            <p:style>
              <a:lnRef idx="0"/>
              <a:fillRef idx="0"/>
              <a:effectRef idx="0"/>
              <a:fontRef idx="minor"/>
            </p:style>
            <p:txBody>
              <a:bodyPr lIns="90000" rIns="90000" tIns="-45360" bIns="-45360" anchor="t">
                <a:noAutofit/>
              </a:bodyPr>
              <a:p>
                <a:endParaRPr b="0" lang="en-US" sz="1800" spc="-1" strike="noStrike">
                  <a:solidFill>
                    <a:srgbClr val="103154"/>
                  </a:solidFill>
                  <a:latin typeface="Arial"/>
                </a:endParaRPr>
              </a:p>
            </p:txBody>
          </p:sp>
        </p:grpSp>
        <p:sp>
          <p:nvSpPr>
            <p:cNvPr id="133" name="Teardrop 8"/>
            <p:cNvSpPr/>
            <p:nvPr/>
          </p:nvSpPr>
          <p:spPr>
            <a:xfrm>
              <a:off x="6818400" y="3620880"/>
              <a:ext cx="393480" cy="395280"/>
            </a:xfrm>
            <a:custGeom>
              <a:avLst/>
              <a:gdLst>
                <a:gd name="textAreaLeft" fmla="*/ 57600 w 393480"/>
                <a:gd name="textAreaRight" fmla="*/ 335880 w 393480"/>
                <a:gd name="textAreaTop" fmla="*/ 57600 h 395280"/>
                <a:gd name="textAreaBottom" fmla="*/ 337680 h 395280"/>
              </a:gdLst>
              <a:ahLst/>
              <a:rect l="textAreaLeft" t="textAreaTop" r="textAreaRight" b="textAreaBottom"/>
              <a:pathLst>
                <a:path w="393700" h="395400">
                  <a:moveTo>
                    <a:pt x="0" y="197700"/>
                  </a:moveTo>
                  <a:lnTo>
                    <a:pt x="0" y="197700"/>
                  </a:lnTo>
                  <a:arcTo wR="196850" hR="197700" stAng="10800000" swAng="5400000"/>
                  <a:lnTo>
                    <a:pt x="295275" y="0"/>
                  </a:lnTo>
                  <a:lnTo>
                    <a:pt x="393700" y="0"/>
                  </a:lnTo>
                  <a:lnTo>
                    <a:pt x="393700" y="148275"/>
                  </a:lnTo>
                  <a:arcTo wR="0" hR="49425" stAng="0" swAng="0"/>
                  <a:lnTo>
                    <a:pt x="364872" y="366448"/>
                  </a:lnTo>
                  <a:arcTo wR="-98425" hR="98850" stAng="2707406" swAng="10800000"/>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grpSp>
      <p:sp>
        <p:nvSpPr>
          <p:cNvPr id="1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3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36" name="PlaceHolder 3"/>
          <p:cNvSpPr>
            <a:spLocks noGrp="1"/>
          </p:cNvSpPr>
          <p:nvPr>
            <p:ph type="dt" idx="9"/>
          </p:nvPr>
        </p:nvSpPr>
        <p:spPr>
          <a:xfrm rot="16200000">
            <a:off x="-733320" y="4503600"/>
            <a:ext cx="2057400" cy="36504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99B58-CF36-4CFB-B683-BBFB8E98B219}" type="datetime">
              <a:rPr b="1" lang="en-US" sz="1400" spc="-1" strike="noStrike">
                <a:solidFill>
                  <a:srgbClr val="7f7f7f"/>
                </a:solidFill>
                <a:latin typeface="Corbel"/>
              </a:rPr>
              <a:t>07/29/26</a:t>
            </a:fld>
            <a:endParaRPr b="0" lang="en-US" sz="1400" spc="-1" strike="noStrike">
              <a:solidFill>
                <a:srgbClr val="ffffff"/>
              </a:solidFill>
              <a:latin typeface="Times New Roman"/>
            </a:endParaRPr>
          </a:p>
        </p:txBody>
      </p:sp>
      <p:sp>
        <p:nvSpPr>
          <p:cNvPr id="137" name="PlaceHolder 4"/>
          <p:cNvSpPr>
            <a:spLocks noGrp="1"/>
          </p:cNvSpPr>
          <p:nvPr>
            <p:ph type="ftr" idx="10"/>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4" name="Group 6"/>
          <p:cNvGrpSpPr/>
          <p:nvPr/>
        </p:nvGrpSpPr>
        <p:grpSpPr>
          <a:xfrm>
            <a:off x="1599840" y="2127240"/>
            <a:ext cx="7543800" cy="2603160"/>
            <a:chOff x="1599840" y="2127240"/>
            <a:chExt cx="7543800" cy="2603160"/>
          </a:xfrm>
        </p:grpSpPr>
        <p:grpSp>
          <p:nvGrpSpPr>
            <p:cNvPr id="175" name="Group 11"/>
            <p:cNvGrpSpPr/>
            <p:nvPr/>
          </p:nvGrpSpPr>
          <p:grpSpPr>
            <a:xfrm>
              <a:off x="1599840" y="2127240"/>
              <a:ext cx="7543800" cy="2603160"/>
              <a:chOff x="1599840" y="2127240"/>
              <a:chExt cx="7543800" cy="2603160"/>
            </a:xfrm>
          </p:grpSpPr>
          <p:sp>
            <p:nvSpPr>
              <p:cNvPr id="176" name="Snip Single Corner Rectangle 9"/>
              <p:cNvSpPr/>
              <p:nvPr/>
            </p:nvSpPr>
            <p:spPr>
              <a:xfrm flipH="1" flipV="1">
                <a:off x="1599480" y="2139120"/>
                <a:ext cx="7543800" cy="2590920"/>
              </a:xfrm>
              <a:custGeom>
                <a:avLst/>
                <a:gdLst>
                  <a:gd name="textAreaLeft" fmla="*/ -360 w 7543800"/>
                  <a:gd name="textAreaRight" fmla="*/ 7448040 w 7543800"/>
                  <a:gd name="textAreaTop" fmla="*/ 95400 h 2590920"/>
                  <a:gd name="textAreaBottom" fmla="*/ 2591280 h 2590920"/>
                </a:gdLst>
                <a:ahLst/>
                <a:rect l="textAreaLeft" t="textAreaTop" r="textAreaRight" b="textAreaBottom"/>
                <a:pathLst>
                  <a:path w="7543801" h="2591543">
                    <a:moveTo>
                      <a:pt x="0" y="0"/>
                    </a:moveTo>
                    <a:lnTo>
                      <a:pt x="7352571" y="0"/>
                    </a:lnTo>
                    <a:lnTo>
                      <a:pt x="7543801" y="191230"/>
                    </a:lnTo>
                    <a:lnTo>
                      <a:pt x="7543801" y="2591543"/>
                    </a:lnTo>
                    <a:lnTo>
                      <a:pt x="0" y="2591543"/>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177" name="Straight Connector 10"/>
              <p:cNvSpPr/>
              <p:nvPr/>
            </p:nvSpPr>
            <p:spPr>
              <a:xfrm flipH="1">
                <a:off x="1599840" y="2127240"/>
                <a:ext cx="7543800" cy="1440"/>
              </a:xfrm>
              <a:prstGeom prst="line">
                <a:avLst/>
              </a:prstGeom>
              <a:ln w="28440">
                <a:solidFill>
                  <a:srgbClr val="ff7f01"/>
                </a:solidFill>
                <a:miter/>
              </a:ln>
            </p:spPr>
            <p:style>
              <a:lnRef idx="0"/>
              <a:fillRef idx="0"/>
              <a:effectRef idx="0"/>
              <a:fontRef idx="minor"/>
            </p:style>
            <p:txBody>
              <a:bodyPr lIns="90000" rIns="90000" tIns="-45360" bIns="-45360" anchor="t">
                <a:noAutofit/>
              </a:bodyPr>
              <a:p>
                <a:endParaRPr b="0" lang="en-US" sz="1800" spc="-1" strike="noStrike">
                  <a:solidFill>
                    <a:srgbClr val="103154"/>
                  </a:solidFill>
                  <a:latin typeface="Arial"/>
                </a:endParaRPr>
              </a:p>
            </p:txBody>
          </p:sp>
        </p:grpSp>
        <p:sp>
          <p:nvSpPr>
            <p:cNvPr id="178" name="Teardrop 8"/>
            <p:cNvSpPr/>
            <p:nvPr/>
          </p:nvSpPr>
          <p:spPr>
            <a:xfrm>
              <a:off x="8521920" y="2368440"/>
              <a:ext cx="393480" cy="395280"/>
            </a:xfrm>
            <a:custGeom>
              <a:avLst/>
              <a:gdLst>
                <a:gd name="textAreaLeft" fmla="*/ 57600 w 393480"/>
                <a:gd name="textAreaRight" fmla="*/ 335880 w 393480"/>
                <a:gd name="textAreaTop" fmla="*/ 57600 h 395280"/>
                <a:gd name="textAreaBottom" fmla="*/ 337680 h 395280"/>
              </a:gdLst>
              <a:ahLst/>
              <a:rect l="textAreaLeft" t="textAreaTop" r="textAreaRight" b="textAreaBottom"/>
              <a:pathLst>
                <a:path w="393700" h="395401">
                  <a:moveTo>
                    <a:pt x="0" y="197701"/>
                  </a:moveTo>
                  <a:lnTo>
                    <a:pt x="0" y="197701"/>
                  </a:lnTo>
                  <a:arcTo wR="196850" hR="197701" stAng="10800000" swAng="5400000"/>
                  <a:lnTo>
                    <a:pt x="295275" y="0"/>
                  </a:lnTo>
                  <a:lnTo>
                    <a:pt x="393700" y="0"/>
                  </a:lnTo>
                  <a:lnTo>
                    <a:pt x="393700" y="148276"/>
                  </a:lnTo>
                  <a:arcTo wR="0" hR="49426" stAng="0" swAng="0"/>
                  <a:lnTo>
                    <a:pt x="364872" y="366449"/>
                  </a:lnTo>
                  <a:arcTo wR="-98425" hR="98851" stAng="2707415" swAng="10800000"/>
                  <a:close/>
                </a:path>
              </a:pathLst>
            </a:custGeom>
            <a:solidFill>
              <a:srgbClr val="ff7f01"/>
            </a:solidFill>
            <a:ln w="0">
              <a:noFill/>
            </a:ln>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grpSp>
      <p:sp>
        <p:nvSpPr>
          <p:cNvPr id="1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8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81" name="PlaceHolder 3"/>
          <p:cNvSpPr>
            <a:spLocks noGrp="1"/>
          </p:cNvSpPr>
          <p:nvPr>
            <p:ph type="ftr" idx="11"/>
          </p:nvPr>
        </p:nvSpPr>
        <p:spPr>
          <a:xfrm rot="16200000">
            <a:off x="8033760" y="3474720"/>
            <a:ext cx="1828800" cy="36540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182" name="PlaceHolder 4"/>
          <p:cNvSpPr>
            <a:spLocks noGrp="1"/>
          </p:cNvSpPr>
          <p:nvPr>
            <p:ph type="dt" idx="12"/>
          </p:nvPr>
        </p:nvSpPr>
        <p:spPr>
          <a:xfrm rot="16200000">
            <a:off x="7657560" y="3474720"/>
            <a:ext cx="1828800" cy="3654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D8C17-1DDE-431A-86F3-F70A06535316}" type="datetime">
              <a:rPr b="1" lang="en-US" sz="1400" spc="-1" strike="noStrike">
                <a:solidFill>
                  <a:srgbClr val="7f7f7f"/>
                </a:solidFill>
                <a:latin typeface="Corbel"/>
              </a:rPr>
              <a:t>07/29/26</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Snip Diagonal Corner Rectangle 6"/>
          <p:cNvSpPr/>
          <p:nvPr/>
        </p:nvSpPr>
        <p:spPr>
          <a:xfrm flipV="1">
            <a:off x="228600" y="1707120"/>
            <a:ext cx="8686800" cy="4908600"/>
          </a:xfrm>
          <a:custGeom>
            <a:avLst/>
            <a:gdLst>
              <a:gd name="textAreaLeft" fmla="*/ 97920 w 8686800"/>
              <a:gd name="textAreaRight" fmla="*/ 8588880 w 8686800"/>
              <a:gd name="textAreaTop" fmla="*/ 97920 h 4908600"/>
              <a:gd name="textAreaBottom" fmla="*/ 4810680 h 4908600"/>
            </a:gdLst>
            <a:ahLst/>
            <a:rect l="textAreaLeft" t="textAreaTop" r="textAreaRight" b="textAreaBottom"/>
            <a:pathLst>
              <a:path w="8686800" h="4908550">
                <a:moveTo>
                  <a:pt x="0" y="0"/>
                </a:moveTo>
                <a:lnTo>
                  <a:pt x="8490311" y="0"/>
                </a:lnTo>
                <a:lnTo>
                  <a:pt x="8686800" y="196489"/>
                </a:lnTo>
                <a:lnTo>
                  <a:pt x="8686800" y="4908550"/>
                </a:lnTo>
                <a:lnTo>
                  <a:pt x="196489" y="4908550"/>
                </a:lnTo>
                <a:lnTo>
                  <a:pt x="0" y="4712061"/>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220" name="Snip Diagonal Corner Rectangle 7"/>
          <p:cNvSpPr/>
          <p:nvPr/>
        </p:nvSpPr>
        <p:spPr>
          <a:xfrm flipV="1">
            <a:off x="228600" y="228240"/>
            <a:ext cx="8686800" cy="1278000"/>
          </a:xfrm>
          <a:custGeom>
            <a:avLst/>
            <a:gdLst>
              <a:gd name="textAreaLeft" fmla="*/ 74520 w 8686800"/>
              <a:gd name="textAreaRight" fmla="*/ 8612280 w 8686800"/>
              <a:gd name="textAreaTop" fmla="*/ 74520 h 1278000"/>
              <a:gd name="textAreaBottom" fmla="*/ 1203480 h 1278000"/>
            </a:gdLst>
            <a:ahLst/>
            <a:rect l="textAreaLeft" t="textAreaTop" r="textAreaRight" b="textAreaBottom"/>
            <a:pathLst>
              <a:path w="8686800" h="1277938">
                <a:moveTo>
                  <a:pt x="0" y="0"/>
                </a:moveTo>
                <a:lnTo>
                  <a:pt x="8537614" y="0"/>
                </a:lnTo>
                <a:lnTo>
                  <a:pt x="8686800" y="149186"/>
                </a:lnTo>
                <a:lnTo>
                  <a:pt x="8686800" y="1277938"/>
                </a:lnTo>
                <a:lnTo>
                  <a:pt x="149186" y="1277938"/>
                </a:lnTo>
                <a:lnTo>
                  <a:pt x="0" y="1128752"/>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2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22"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23" name="PlaceHolder 3"/>
          <p:cNvSpPr>
            <a:spLocks noGrp="1"/>
          </p:cNvSpPr>
          <p:nvPr>
            <p:ph type="dt" idx="13"/>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3281F-5F3F-469F-AA1C-0081CE14FDBD}" type="datetime">
              <a:rPr b="1" lang="en-US" sz="1100" spc="-1" strike="noStrike">
                <a:solidFill>
                  <a:srgbClr val="a6a6a6"/>
                </a:solidFill>
                <a:latin typeface="Corbel"/>
              </a:rPr>
              <a:t>07/29/26</a:t>
            </a:fld>
            <a:endParaRPr b="0" lang="en-US" sz="1100" spc="-1" strike="noStrike">
              <a:solidFill>
                <a:srgbClr val="ffffff"/>
              </a:solidFill>
              <a:latin typeface="Times New Roman"/>
            </a:endParaRPr>
          </a:p>
        </p:txBody>
      </p:sp>
      <p:sp>
        <p:nvSpPr>
          <p:cNvPr id="224"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225" name="PlaceHolder 5"/>
          <p:cNvSpPr>
            <a:spLocks noGrp="1"/>
          </p:cNvSpPr>
          <p:nvPr>
            <p:ph type="sldNum" idx="15"/>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AA8FD2-C7A7-42E1-92C8-F4F44204700B}"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Snip Diagonal Corner Rectangle 6"/>
          <p:cNvSpPr/>
          <p:nvPr/>
        </p:nvSpPr>
        <p:spPr>
          <a:xfrm flipV="1">
            <a:off x="228600" y="1707120"/>
            <a:ext cx="8686800" cy="4908600"/>
          </a:xfrm>
          <a:custGeom>
            <a:avLst/>
            <a:gdLst>
              <a:gd name="textAreaLeft" fmla="*/ 97920 w 8686800"/>
              <a:gd name="textAreaRight" fmla="*/ 8588880 w 8686800"/>
              <a:gd name="textAreaTop" fmla="*/ 97920 h 4908600"/>
              <a:gd name="textAreaBottom" fmla="*/ 4810680 h 4908600"/>
            </a:gdLst>
            <a:ahLst/>
            <a:rect l="textAreaLeft" t="textAreaTop" r="textAreaRight" b="textAreaBottom"/>
            <a:pathLst>
              <a:path w="8686800" h="4908550">
                <a:moveTo>
                  <a:pt x="0" y="0"/>
                </a:moveTo>
                <a:lnTo>
                  <a:pt x="8490311" y="0"/>
                </a:lnTo>
                <a:lnTo>
                  <a:pt x="8686800" y="196489"/>
                </a:lnTo>
                <a:lnTo>
                  <a:pt x="8686800" y="4908550"/>
                </a:lnTo>
                <a:lnTo>
                  <a:pt x="196489" y="4908550"/>
                </a:lnTo>
                <a:lnTo>
                  <a:pt x="0" y="4712061"/>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263" name="Snip Diagonal Corner Rectangle 7"/>
          <p:cNvSpPr/>
          <p:nvPr/>
        </p:nvSpPr>
        <p:spPr>
          <a:xfrm flipV="1">
            <a:off x="228600" y="228240"/>
            <a:ext cx="8686800" cy="1278000"/>
          </a:xfrm>
          <a:custGeom>
            <a:avLst/>
            <a:gdLst>
              <a:gd name="textAreaLeft" fmla="*/ 74520 w 8686800"/>
              <a:gd name="textAreaRight" fmla="*/ 8612280 w 8686800"/>
              <a:gd name="textAreaTop" fmla="*/ 74520 h 1278000"/>
              <a:gd name="textAreaBottom" fmla="*/ 1203480 h 1278000"/>
            </a:gdLst>
            <a:ahLst/>
            <a:rect l="textAreaLeft" t="textAreaTop" r="textAreaRight" b="textAreaBottom"/>
            <a:pathLst>
              <a:path w="8686800" h="1277938">
                <a:moveTo>
                  <a:pt x="0" y="0"/>
                </a:moveTo>
                <a:lnTo>
                  <a:pt x="8537614" y="0"/>
                </a:lnTo>
                <a:lnTo>
                  <a:pt x="8686800" y="149186"/>
                </a:lnTo>
                <a:lnTo>
                  <a:pt x="8686800" y="1277938"/>
                </a:lnTo>
                <a:lnTo>
                  <a:pt x="149186" y="1277938"/>
                </a:lnTo>
                <a:lnTo>
                  <a:pt x="0" y="1128752"/>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2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6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66" name="PlaceHolder 3"/>
          <p:cNvSpPr>
            <a:spLocks noGrp="1"/>
          </p:cNvSpPr>
          <p:nvPr>
            <p:ph type="dt" idx="16"/>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925E1-8FDE-465B-93DC-AC8C47E53A68}" type="datetime">
              <a:rPr b="1" lang="en-US" sz="1100" spc="-1" strike="noStrike">
                <a:solidFill>
                  <a:srgbClr val="a6a6a6"/>
                </a:solidFill>
                <a:latin typeface="Corbel"/>
              </a:rPr>
              <a:t>07/29/26</a:t>
            </a:fld>
            <a:endParaRPr b="0" lang="en-US" sz="1100" spc="-1" strike="noStrike">
              <a:solidFill>
                <a:srgbClr val="ffffff"/>
              </a:solidFill>
              <a:latin typeface="Times New Roman"/>
            </a:endParaRPr>
          </a:p>
        </p:txBody>
      </p:sp>
      <p:sp>
        <p:nvSpPr>
          <p:cNvPr id="267"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268" name="PlaceHolder 5"/>
          <p:cNvSpPr>
            <a:spLocks noGrp="1"/>
          </p:cNvSpPr>
          <p:nvPr>
            <p:ph type="sldNum" idx="18"/>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371D4-2791-4FD9-892E-793B913E7E04}"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Snip Diagonal Corner Rectangle 6"/>
          <p:cNvSpPr/>
          <p:nvPr/>
        </p:nvSpPr>
        <p:spPr>
          <a:xfrm flipV="1">
            <a:off x="228600" y="1707120"/>
            <a:ext cx="8686800" cy="4908600"/>
          </a:xfrm>
          <a:custGeom>
            <a:avLst/>
            <a:gdLst>
              <a:gd name="textAreaLeft" fmla="*/ 97920 w 8686800"/>
              <a:gd name="textAreaRight" fmla="*/ 8588880 w 8686800"/>
              <a:gd name="textAreaTop" fmla="*/ 97920 h 4908600"/>
              <a:gd name="textAreaBottom" fmla="*/ 4810680 h 4908600"/>
            </a:gdLst>
            <a:ahLst/>
            <a:rect l="textAreaLeft" t="textAreaTop" r="textAreaRight" b="textAreaBottom"/>
            <a:pathLst>
              <a:path w="8686800" h="4908550">
                <a:moveTo>
                  <a:pt x="0" y="0"/>
                </a:moveTo>
                <a:lnTo>
                  <a:pt x="8490311" y="0"/>
                </a:lnTo>
                <a:lnTo>
                  <a:pt x="8686800" y="196489"/>
                </a:lnTo>
                <a:lnTo>
                  <a:pt x="8686800" y="4908550"/>
                </a:lnTo>
                <a:lnTo>
                  <a:pt x="196489" y="4908550"/>
                </a:lnTo>
                <a:lnTo>
                  <a:pt x="0" y="4712061"/>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306" name="Snip Diagonal Corner Rectangle 7"/>
          <p:cNvSpPr/>
          <p:nvPr/>
        </p:nvSpPr>
        <p:spPr>
          <a:xfrm flipV="1">
            <a:off x="228600" y="228240"/>
            <a:ext cx="8686800" cy="1278000"/>
          </a:xfrm>
          <a:custGeom>
            <a:avLst/>
            <a:gdLst>
              <a:gd name="textAreaLeft" fmla="*/ 74520 w 8686800"/>
              <a:gd name="textAreaRight" fmla="*/ 8612280 w 8686800"/>
              <a:gd name="textAreaTop" fmla="*/ 74520 h 1278000"/>
              <a:gd name="textAreaBottom" fmla="*/ 1203480 h 1278000"/>
            </a:gdLst>
            <a:ahLst/>
            <a:rect l="textAreaLeft" t="textAreaTop" r="textAreaRight" b="textAreaBottom"/>
            <a:pathLst>
              <a:path w="8686800" h="1277938">
                <a:moveTo>
                  <a:pt x="0" y="0"/>
                </a:moveTo>
                <a:lnTo>
                  <a:pt x="8537614" y="0"/>
                </a:lnTo>
                <a:lnTo>
                  <a:pt x="8686800" y="149186"/>
                </a:lnTo>
                <a:lnTo>
                  <a:pt x="8686800" y="1277938"/>
                </a:lnTo>
                <a:lnTo>
                  <a:pt x="149186" y="1277938"/>
                </a:lnTo>
                <a:lnTo>
                  <a:pt x="0" y="1128752"/>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3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08"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09" name="PlaceHolder 3"/>
          <p:cNvSpPr>
            <a:spLocks noGrp="1"/>
          </p:cNvSpPr>
          <p:nvPr>
            <p:ph type="dt" idx="19"/>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A4B4F-B74A-4CF7-961B-AE67A433DBA3}" type="datetime">
              <a:rPr b="1" lang="en-US" sz="1100" spc="-1" strike="noStrike">
                <a:solidFill>
                  <a:srgbClr val="a6a6a6"/>
                </a:solidFill>
                <a:latin typeface="Corbel"/>
              </a:rPr>
              <a:t>07/29/26</a:t>
            </a:fld>
            <a:endParaRPr b="0" lang="en-US" sz="1100" spc="-1" strike="noStrike">
              <a:solidFill>
                <a:srgbClr val="ffffff"/>
              </a:solidFill>
              <a:latin typeface="Times New Roman"/>
            </a:endParaRPr>
          </a:p>
        </p:txBody>
      </p:sp>
      <p:sp>
        <p:nvSpPr>
          <p:cNvPr id="310"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311" name="PlaceHolder 5"/>
          <p:cNvSpPr>
            <a:spLocks noGrp="1"/>
          </p:cNvSpPr>
          <p:nvPr>
            <p:ph type="sldNum" idx="21"/>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E624D-C9EE-4149-AA9D-A9CE46EFE33A}"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Snip Diagonal Corner Rectangle 6"/>
          <p:cNvSpPr/>
          <p:nvPr/>
        </p:nvSpPr>
        <p:spPr>
          <a:xfrm flipV="1">
            <a:off x="228600" y="227520"/>
            <a:ext cx="8686800" cy="6388200"/>
          </a:xfrm>
          <a:custGeom>
            <a:avLst/>
            <a:gdLst>
              <a:gd name="textAreaLeft" fmla="*/ 80640 w 8686800"/>
              <a:gd name="textAreaRight" fmla="*/ 8606160 w 8686800"/>
              <a:gd name="textAreaTop" fmla="*/ 80640 h 6388200"/>
              <a:gd name="textAreaBottom" fmla="*/ 6307560 h 6388200"/>
            </a:gdLst>
            <a:ahLst/>
            <a:rect l="textAreaLeft" t="textAreaTop" r="textAreaRight" b="textAreaBottom"/>
            <a:pathLst>
              <a:path w="8686800" h="6388100">
                <a:moveTo>
                  <a:pt x="0" y="0"/>
                </a:moveTo>
                <a:lnTo>
                  <a:pt x="8525245" y="0"/>
                </a:lnTo>
                <a:lnTo>
                  <a:pt x="8686800" y="161555"/>
                </a:lnTo>
                <a:lnTo>
                  <a:pt x="8686800" y="6388100"/>
                </a:lnTo>
                <a:lnTo>
                  <a:pt x="161555" y="6388100"/>
                </a:lnTo>
                <a:lnTo>
                  <a:pt x="0" y="6226545"/>
                </a:lnTo>
                <a:lnTo>
                  <a:pt x="0" y="0"/>
                </a:lnTo>
                <a:close/>
              </a:path>
            </a:pathLst>
          </a:cu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103154"/>
              </a:solidFill>
              <a:latin typeface="Arial"/>
            </a:endParaRPr>
          </a:p>
        </p:txBody>
      </p:sp>
      <p:sp>
        <p:nvSpPr>
          <p:cNvPr id="3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5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51" name="PlaceHolder 3"/>
          <p:cNvSpPr>
            <a:spLocks noGrp="1"/>
          </p:cNvSpPr>
          <p:nvPr>
            <p:ph type="dt" idx="22"/>
          </p:nvPr>
        </p:nvSpPr>
        <p:spPr>
          <a:xfrm>
            <a:off x="228240" y="6243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F54F9-E203-451E-BDA5-1F68CD0A2A6F}" type="datetime">
              <a:rPr b="1" lang="en-US" sz="1100" spc="-1" strike="noStrike">
                <a:solidFill>
                  <a:srgbClr val="a6a6a6"/>
                </a:solidFill>
                <a:latin typeface="Corbel"/>
              </a:rPr>
              <a:t>07/29/26</a:t>
            </a:fld>
            <a:endParaRPr b="0" lang="en-US" sz="1100" spc="-1" strike="noStrike">
              <a:solidFill>
                <a:srgbClr val="ffffff"/>
              </a:solidFill>
              <a:latin typeface="Times New Roman"/>
            </a:endParaRPr>
          </a:p>
        </p:txBody>
      </p:sp>
      <p:sp>
        <p:nvSpPr>
          <p:cNvPr id="352"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Arial"/>
            </a:endParaRPr>
          </a:p>
        </p:txBody>
      </p:sp>
      <p:sp>
        <p:nvSpPr>
          <p:cNvPr id="353" name="PlaceHolder 5"/>
          <p:cNvSpPr>
            <a:spLocks noGrp="1"/>
          </p:cNvSpPr>
          <p:nvPr>
            <p:ph type="sldNum" idx="24"/>
          </p:nvPr>
        </p:nvSpPr>
        <p:spPr>
          <a:xfrm>
            <a:off x="4305240" y="6248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orbe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584FB-B3A5-4DAA-9877-29CC47555D1B}" type="slidenum">
              <a:rPr b="1" lang="en-US" sz="1100" spc="-1" strike="noStrike">
                <a:solidFill>
                  <a:srgbClr val="a6a6a6"/>
                </a:solidFill>
                <a:latin typeface="Corbe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371600" y="3912840"/>
            <a:ext cx="586728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74576"/>
                </a:solidFill>
                <a:latin typeface="Corbel"/>
              </a:rPr>
              <a:t>What can be more powerful than words?</a:t>
            </a:r>
            <a:endParaRPr b="0" lang="en-US" sz="4100" spc="-1" strike="noStrike">
              <a:solidFill>
                <a:srgbClr val="174576"/>
              </a:solidFill>
              <a:latin typeface="Corbel"/>
            </a:endParaRPr>
          </a:p>
        </p:txBody>
      </p:sp>
      <p:sp>
        <p:nvSpPr>
          <p:cNvPr id="607" name="PlaceHolder 2"/>
          <p:cNvSpPr>
            <a:spLocks noGrp="1"/>
          </p:cNvSpPr>
          <p:nvPr>
            <p:ph type="subTitle"/>
          </p:nvPr>
        </p:nvSpPr>
        <p:spPr>
          <a:xfrm>
            <a:off x="1371600" y="5397480"/>
            <a:ext cx="5867280" cy="573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Subtext</a:t>
            </a:r>
            <a:endParaRPr b="0" lang="en-US" sz="14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2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at did you think of first when you heard the first line of the conversation? Why?</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at did you notice your mind doing as we continued?</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at influences a reader when they come across a conversation like this? Brainstorm with your table.</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6" descr=""/>
          <p:cNvPicPr/>
          <p:nvPr/>
        </p:nvPicPr>
        <p:blipFill>
          <a:blip r:embed="rId1"/>
          <a:stretch/>
        </p:blipFill>
        <p:spPr>
          <a:xfrm>
            <a:off x="166680" y="130320"/>
            <a:ext cx="8798040" cy="6562440"/>
          </a:xfrm>
          <a:prstGeom prst="rect">
            <a:avLst/>
          </a:prstGeom>
          <a:ln w="0">
            <a:noFill/>
          </a:ln>
        </p:spPr>
      </p:pic>
      <p:sp>
        <p:nvSpPr>
          <p:cNvPr id="631"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One of my favorite poems</a:t>
            </a:r>
            <a:endParaRPr b="0" lang="en-US" sz="3800" spc="-1" strike="noStrike">
              <a:solidFill>
                <a:srgbClr val="174576"/>
              </a:solidFill>
              <a:latin typeface="Corbel"/>
            </a:endParaRPr>
          </a:p>
        </p:txBody>
      </p:sp>
      <p:pic>
        <p:nvPicPr>
          <p:cNvPr id="632" name="12 The Most Beautiful Girl (In The Room).m4a" descr="/Users/jbarbery/Music/iTunes/iTunes Music/Music/Flight Of The Conchords/Flight Of The Conchords/12 The Most Beautiful Girl (In The Room).m4a"/>
          <p:cNvPicPr/>
          <p:nvPr/>
        </p:nvPicPr>
        <p:blipFill>
          <a:blip r:embed="rId2"/>
          <a:stretch/>
        </p:blipFill>
        <p:spPr>
          <a:xfrm>
            <a:off x="297000" y="5791320"/>
            <a:ext cx="1523880" cy="6984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restart="whenNotActive" nodeType="interactiveSeq" fill="hold">
                <p:stCondLst>
                  <p:cond evt="onClick">
                    <p:tgtEl>
                      <p:spTgt spid="632"/>
                    </p:tgtEl>
                  </p:cond>
                </p:stCondLst>
                <p:childTnLst>
                  <p:par>
                    <p:cTn id="96" fill="hold">
                      <p:stCondLst>
                        <p:cond evt="onClick">
                          <p:tgtEl>
                            <p:spTgt spid="632"/>
                          </p:tgtEl>
                        </p:cond>
                      </p:stCondLst>
                      <p:childTnLst>
                        <p:par>
                          <p:cTn id="97" fill="hold">
                            <p:stCondLst>
                              <p:cond delay="0"/>
                            </p:stCondLst>
                            <p:childTnLst>
                              <p:par>
                                <p:cTn id="98" nodeType="clickEffect" fill="hold" presetClass="mediacall" presetID="2">
                                  <p:stCondLst>
                                    <p:cond delay="0"/>
                                  </p:stCondLst>
                                  <p:childTnLst>
                                    <p:cmd type="call" cmd="togglePause">
                                      <p:cBhvr>
                                        <p:cTn id="99" dur="1" fill="hold"/>
                                        <p:tgtEl>
                                          <p:spTgt spid="6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Group Work!</a:t>
            </a:r>
            <a:endParaRPr b="0" lang="en-US" sz="3800" spc="-1" strike="noStrike">
              <a:solidFill>
                <a:srgbClr val="174576"/>
              </a:solidFill>
              <a:latin typeface="Corbel"/>
            </a:endParaRPr>
          </a:p>
        </p:txBody>
      </p:sp>
      <p:sp>
        <p:nvSpPr>
          <p:cNvPr id="634"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Participants will be able to write implied messages by responding to a male suitors advances. </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74576"/>
                </a:solidFill>
                <a:latin typeface="Corbel"/>
              </a:rPr>
              <a:t>Narrative Analysis of Grade-Level-Appropriate Text</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74576"/>
                </a:solidFill>
                <a:latin typeface="Corbel"/>
              </a:rPr>
              <a:t>3.3Analyze interactions between main and subordinate characters in a literary text (e.g., internal and external conflicts, motivations, relationships, influences) and explain the way those interactions affect the plot.</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74576"/>
                </a:solidFill>
                <a:latin typeface="Corbel"/>
              </a:rPr>
              <a:t>3.4Determine characters’ traits by what the characters say about themselves in narration, dialogue, dramatic monologue, and soliloquy.</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11"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2.2Write responses to </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 Ideas of literary works. </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b. Support important ideas and viewpoints through accurate and detailed references to the text or to other works. </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c. Demonstrate awareness of the author’s use of stylistic devices and an appreciation of the effects created. </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d. Identify and assess the impact of perceived ambiguities, nuances, and complexities within the text.</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Rationale</a:t>
            </a:r>
            <a:endParaRPr b="0" lang="en-US" sz="3800" spc="-1" strike="noStrike">
              <a:solidFill>
                <a:srgbClr val="174576"/>
              </a:solidFill>
              <a:latin typeface="Corbel"/>
            </a:endParaRPr>
          </a:p>
        </p:txBody>
      </p:sp>
      <p:sp>
        <p:nvSpPr>
          <p:cNvPr id="613" name=""/>
          <p:cNvSpPr txBox="1"/>
          <p:nvPr/>
        </p:nvSpPr>
        <p:spPr>
          <a:xfrm>
            <a:off x="779040" y="1949400"/>
            <a:ext cx="7583400" cy="4006800"/>
          </a:xfrm>
          <a:prstGeom prst="rect">
            <a:avLst/>
          </a:prstGeom>
          <a:noFill/>
          <a:ln w="0">
            <a:noFill/>
          </a:ln>
        </p:spPr>
        <p:txBody>
          <a:bodyPr anchor="t">
            <a:normAutofit fontScale="99000"/>
          </a:bodyPr>
          <a:p>
            <a:pPr marL="339480" indent="-3394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Participants will engage in a lesson focused on understanding authentic communication. Because participants engage in with texts and formats that are familiar, they are better able to understand the innuendo that many forms of communication have imbedded. </a:t>
            </a:r>
            <a:endParaRPr b="0" lang="en-US" sz="2200" spc="-1" strike="noStrike">
              <a:solidFill>
                <a:srgbClr val="174576"/>
              </a:solidFill>
              <a:latin typeface="Corbel"/>
            </a:endParaRPr>
          </a:p>
          <a:p>
            <a:pPr lvl="1" marL="678600" indent="-3330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Hudelson explains: “Students learn to read by interacting with whole authentic texts and they learn to write by creating whole authentic text… by having others react to what they have created, by revising their pieces, and by using their reading knowledge to help them write like readers.” </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Rationale</a:t>
            </a:r>
            <a:endParaRPr b="0" lang="en-US" sz="3800" spc="-1" strike="noStrike">
              <a:solidFill>
                <a:srgbClr val="174576"/>
              </a:solidFill>
              <a:latin typeface="Corbel"/>
            </a:endParaRPr>
          </a:p>
        </p:txBody>
      </p:sp>
      <p:sp>
        <p:nvSpPr>
          <p:cNvPr id="615"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Many of our ELL students don’t understand American idioms, standards of writing or slang. It is important that they be introduced to the language of the culture and peer group to be able to move on from the “playground” conversations.</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We know that ELL Students can be derailed by obstacles that would not affect native speakers: vocabulary and idioms, unfamiliar syntactical structures, different cultural references and norms, stylistic variations. Rather than shy away from these challenges, we teach them.” (Peitzman, 2005)</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ontent and Language Objective</a:t>
            </a:r>
            <a:endParaRPr b="0" lang="en-US" sz="3800" spc="-1" strike="noStrike">
              <a:solidFill>
                <a:srgbClr val="174576"/>
              </a:solidFill>
              <a:latin typeface="Corbel"/>
            </a:endParaRPr>
          </a:p>
        </p:txBody>
      </p:sp>
      <p:sp>
        <p:nvSpPr>
          <p:cNvPr id="617"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Participants will be able to write implied messages by responding to a male suitors advances. </a:t>
            </a:r>
            <a:endParaRPr b="0" lang="en-US" sz="22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How many of you have received a text like this?</a:t>
            </a:r>
            <a:endParaRPr b="0" lang="en-US" sz="3400" spc="-1" strike="noStrike">
              <a:solidFill>
                <a:srgbClr val="174576"/>
              </a:solidFill>
              <a:latin typeface="Corbel"/>
            </a:endParaRPr>
          </a:p>
        </p:txBody>
      </p:sp>
      <p:sp>
        <p:nvSpPr>
          <p:cNvPr id="619" name=""/>
          <p:cNvSpPr txBox="1"/>
          <p:nvPr/>
        </p:nvSpPr>
        <p:spPr>
          <a:xfrm>
            <a:off x="779040" y="1949400"/>
            <a:ext cx="7583400" cy="4006800"/>
          </a:xfrm>
          <a:prstGeom prst="rect">
            <a:avLst/>
          </a:prstGeom>
          <a:noFill/>
          <a:ln w="0">
            <a:noFill/>
          </a:ln>
        </p:spPr>
        <p:txBody>
          <a:bodyPr anchor="t">
            <a:normAutofit/>
          </a:bodyPr>
          <a:p>
            <a:pPr marL="343080" indent="-343080" algn="ctr">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pic>
        <p:nvPicPr>
          <p:cNvPr id="620" name="Picture 3" descr=""/>
          <p:cNvPicPr/>
          <p:nvPr/>
        </p:nvPicPr>
        <p:blipFill>
          <a:blip r:embed="rId1"/>
          <a:stretch/>
        </p:blipFill>
        <p:spPr>
          <a:xfrm>
            <a:off x="3078000" y="1746360"/>
            <a:ext cx="3222720" cy="4829040"/>
          </a:xfrm>
          <a:prstGeom prst="rect">
            <a:avLst/>
          </a:prstGeom>
          <a:ln w="0">
            <a:noFill/>
          </a:ln>
        </p:spPr>
      </p:pic>
      <p:sp>
        <p:nvSpPr>
          <p:cNvPr id="621" name="TextBox 4"/>
          <p:cNvSpPr/>
          <p:nvPr/>
        </p:nvSpPr>
        <p:spPr>
          <a:xfrm>
            <a:off x="212760" y="3633840"/>
            <a:ext cx="2865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03154"/>
                </a:solidFill>
                <a:latin typeface="Corbel"/>
              </a:rPr>
              <a:t>What is he really saying?</a:t>
            </a:r>
            <a:endParaRPr b="0" lang="en-US" sz="2000" spc="-1" strike="noStrike">
              <a:solidFill>
                <a:srgbClr val="10315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621"/>
                                        </p:tgtEl>
                                        <p:attrNameLst>
                                          <p:attrName>style.visibility</p:attrName>
                                        </p:attrNameLst>
                                      </p:cBhvr>
                                      <p:to>
                                        <p:strVal val="visible"/>
                                      </p:to>
                                    </p:set>
                                    <p:animEffect filter="fade" transition="in">
                                      <p:cBhvr additive="repl">
                                        <p:cTn id="7" dur="1000"/>
                                        <p:tgtEl>
                                          <p:spTgt spid="621"/>
                                        </p:tgtEl>
                                      </p:cBhvr>
                                    </p:animEffect>
                                    <p:anim calcmode="lin" valueType="num">
                                      <p:cBhvr additive="repl">
                                        <p:cTn id="8" dur="1000" fill="hold"/>
                                        <p:tgtEl>
                                          <p:spTgt spid="621"/>
                                        </p:tgtEl>
                                        <p:attrNameLst>
                                          <p:attrName>ppt_x</p:attrName>
                                        </p:attrNameLst>
                                      </p:cBhvr>
                                      <p:tavLst>
                                        <p:tav tm="0">
                                          <p:val>
                                            <p:strVal val="#ppt_x"/>
                                          </p:val>
                                        </p:tav>
                                        <p:tav tm="100000">
                                          <p:val>
                                            <p:strVal val="#ppt_x"/>
                                          </p:val>
                                        </p:tav>
                                      </p:tavLst>
                                    </p:anim>
                                    <p:anim calcmode="lin" valueType="num">
                                      <p:cBhvr additive="repl">
                                        <p:cTn id="9" dur="900" fill="hold"/>
                                        <p:tgtEl>
                                          <p:spTgt spid="621"/>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62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Subtext</a:t>
            </a:r>
            <a:endParaRPr b="0" lang="en-US" sz="3800" spc="-1" strike="noStrike">
              <a:solidFill>
                <a:srgbClr val="174576"/>
              </a:solidFill>
              <a:latin typeface="Corbel"/>
            </a:endParaRPr>
          </a:p>
        </p:txBody>
      </p:sp>
      <p:sp>
        <p:nvSpPr>
          <p:cNvPr id="623"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ome synonyms for subtext: connotation, hidden meaning, insinuation, underton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How were you able to figure out that what John said isn’t what he meant?</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at prevents John from speaking freely about how he really feels? </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174576"/>
                </a:solidFill>
                <a:latin typeface="Corbel"/>
              </a:rPr>
              <a:t>Try this one:</a:t>
            </a:r>
            <a:br>
              <a:rPr sz="3800"/>
            </a:br>
            <a:r>
              <a:rPr b="0" lang="en-US" sz="2400" spc="-1" strike="noStrike">
                <a:solidFill>
                  <a:srgbClr val="174576"/>
                </a:solidFill>
                <a:latin typeface="Corbel"/>
              </a:rPr>
              <a:t>Near a gate at the Atlanta Airport, a man in his thirties wearing a business suit has just placed a call.</a:t>
            </a:r>
            <a:endParaRPr b="0" lang="en-US" sz="2400" spc="-1" strike="noStrike">
              <a:solidFill>
                <a:srgbClr val="174576"/>
              </a:solidFill>
              <a:latin typeface="Corbel"/>
            </a:endParaRPr>
          </a:p>
        </p:txBody>
      </p:sp>
      <p:sp>
        <p:nvSpPr>
          <p:cNvPr id="625" name=""/>
          <p:cNvSpPr txBox="1"/>
          <p:nvPr/>
        </p:nvSpPr>
        <p:spPr>
          <a:xfrm>
            <a:off x="779400" y="1981080"/>
            <a:ext cx="3657600" cy="3975120"/>
          </a:xfrm>
          <a:prstGeom prst="rect">
            <a:avLst/>
          </a:prstGeom>
          <a:noFill/>
          <a:ln w="0">
            <a:noFill/>
          </a:ln>
        </p:spPr>
        <p:txBody>
          <a:bodyPr anchor="t">
            <a:normAutofit fontScale="96000"/>
          </a:bodyPr>
          <a:p>
            <a:pPr marL="329040" indent="-329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t>
            </a:r>
            <a:r>
              <a:rPr b="0" lang="en-US" sz="2000" spc="-1" strike="noStrike">
                <a:solidFill>
                  <a:srgbClr val="174576"/>
                </a:solidFill>
                <a:latin typeface="Corbel"/>
              </a:rPr>
              <a:t>Hi, baby.</a:t>
            </a:r>
            <a:endParaRPr b="0" lang="en-US" sz="2000" spc="-1" strike="noStrike">
              <a:solidFill>
                <a:srgbClr val="174576"/>
              </a:solidFill>
              <a:latin typeface="Corbel"/>
            </a:endParaRPr>
          </a:p>
          <a:p>
            <a:pPr marL="329040" indent="-329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Oh Yeah?</a:t>
            </a:r>
            <a:endParaRPr b="0" lang="en-US" sz="2000" spc="-1" strike="noStrike">
              <a:solidFill>
                <a:srgbClr val="174576"/>
              </a:solidFill>
              <a:latin typeface="Corbel"/>
            </a:endParaRPr>
          </a:p>
          <a:p>
            <a:pPr marL="329040" indent="-3290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No. I’ll be home soon, though.</a:t>
            </a:r>
            <a:endParaRPr b="0" lang="en-US" sz="2000" spc="-1" strike="noStrike">
              <a:solidFill>
                <a:srgbClr val="174576"/>
              </a:solidFill>
              <a:latin typeface="Corbel"/>
            </a:endParaRPr>
          </a:p>
          <a:p>
            <a:pPr marL="329040" indent="-3290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Is your mother there?</a:t>
            </a:r>
            <a:endParaRPr b="0" lang="en-US" sz="2000" spc="-1" strike="noStrike">
              <a:solidFill>
                <a:srgbClr val="174576"/>
              </a:solidFill>
              <a:latin typeface="Corbel"/>
            </a:endParaRPr>
          </a:p>
          <a:p>
            <a:pPr marL="329040" indent="-3290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She what?</a:t>
            </a:r>
            <a:endParaRPr b="0" lang="en-US" sz="2000" spc="-1" strike="noStrike">
              <a:solidFill>
                <a:srgbClr val="174576"/>
              </a:solidFill>
              <a:latin typeface="Corbel"/>
            </a:endParaRPr>
          </a:p>
          <a:p>
            <a:pPr marL="329040" indent="-3290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Is she still at the game?</a:t>
            </a:r>
            <a:endParaRPr b="0" lang="en-US" sz="2000" spc="-1" strike="noStrike">
              <a:solidFill>
                <a:srgbClr val="174576"/>
              </a:solidFill>
              <a:latin typeface="Corbel"/>
            </a:endParaRPr>
          </a:p>
          <a:p>
            <a:pPr marL="329040" indent="-3290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Go get your mother for me. Get your mother.</a:t>
            </a:r>
            <a:endParaRPr b="0" lang="en-US" sz="2000" spc="-1" strike="noStrike">
              <a:solidFill>
                <a:srgbClr val="174576"/>
              </a:solidFill>
              <a:latin typeface="Corbel"/>
            </a:endParaRPr>
          </a:p>
        </p:txBody>
      </p:sp>
      <p:sp>
        <p:nvSpPr>
          <p:cNvPr id="626" name=""/>
          <p:cNvSpPr txBox="1"/>
          <p:nvPr/>
        </p:nvSpPr>
        <p:spPr>
          <a:xfrm>
            <a:off x="4705200" y="1981080"/>
            <a:ext cx="3657600" cy="397512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Hi there. I’m in Atlanta.</a:t>
            </a:r>
            <a:endParaRPr b="0" lang="en-US" sz="2000" spc="-1" strike="noStrike">
              <a:solidFill>
                <a:srgbClr val="174576"/>
              </a:solidFill>
              <a:latin typeface="Corbel"/>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Well, you know, my session got out late and there was nothing direct.</a:t>
            </a:r>
            <a:endParaRPr b="0" lang="en-US" sz="2000" spc="-1" strike="noStrike">
              <a:solidFill>
                <a:srgbClr val="174576"/>
              </a:solidFill>
              <a:latin typeface="Corbel"/>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How was the game?</a:t>
            </a:r>
            <a:endParaRPr b="0" lang="en-US" sz="2000" spc="-1" strike="noStrike">
              <a:solidFill>
                <a:srgbClr val="174576"/>
              </a:solidFill>
              <a:latin typeface="Corbel"/>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Oh that’s too bad.</a:t>
            </a:r>
            <a:endParaRPr b="0" lang="en-US" sz="2000" spc="-1" strike="noStrike">
              <a:solidFill>
                <a:srgbClr val="174576"/>
              </a:solidFill>
              <a:latin typeface="Corbel"/>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Who were we playing? When did David come in? Gave up some runs? Huh. Is he sleeping?</a:t>
            </a:r>
            <a:endParaRPr b="0" lang="en-US" sz="2000" spc="-1" strike="noStrike">
              <a:solidFill>
                <a:srgbClr val="174576"/>
              </a:solidFill>
              <a:latin typeface="Corbel"/>
            </a:endParaRPr>
          </a:p>
          <a:p>
            <a:pPr marL="343080" indent="-34308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74576"/>
              </a:solidFill>
              <a:latin typeface="Corbel"/>
            </a:endParaRPr>
          </a:p>
        </p:txBody>
      </p:sp>
      <p:sp>
        <p:nvSpPr>
          <p:cNvPr id="627" name="TextBox 5"/>
          <p:cNvSpPr/>
          <p:nvPr/>
        </p:nvSpPr>
        <p:spPr>
          <a:xfrm>
            <a:off x="4705200" y="6151680"/>
            <a:ext cx="3657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03154"/>
                </a:solidFill>
                <a:latin typeface="Arial"/>
              </a:rPr>
              <a:t>Adapted from Larry Weinstein </a:t>
            </a:r>
            <a:endParaRPr b="0" lang="en-US" sz="1000" spc="-1" strike="noStrike">
              <a:solidFill>
                <a:srgbClr val="10315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03154"/>
                </a:solidFill>
                <a:latin typeface="Arial"/>
              </a:rPr>
              <a:t>Writing at the Threshold</a:t>
            </a:r>
            <a:endParaRPr b="0" lang="en-US" sz="1000" spc="-1" strike="noStrike">
              <a:solidFill>
                <a:srgbClr val="103154"/>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7">
                                  <p:stCondLst>
                                    <p:cond delay="0"/>
                                  </p:stCondLst>
                                  <p:childTnLst>
                                    <p:set>
                                      <p:cBhvr>
                                        <p:cTn id="16" dur="1" fill="hold">
                                          <p:stCondLst>
                                            <p:cond delay="0"/>
                                          </p:stCondLst>
                                        </p:cTn>
                                        <p:tgtEl>
                                          <p:spTgt spid="625">
                                            <p:txEl>
                                              <p:pRg st="0" end="0"/>
                                            </p:txEl>
                                          </p:spTgt>
                                        </p:tgtEl>
                                        <p:attrNameLst>
                                          <p:attrName>style.visibility</p:attrName>
                                        </p:attrNameLst>
                                      </p:cBhvr>
                                      <p:to>
                                        <p:strVal val="visible"/>
                                      </p:to>
                                    </p:set>
                                    <p:animEffect filter="fade" transition="in">
                                      <p:cBhvr additive="repl">
                                        <p:cTn id="17" dur="1000"/>
                                        <p:tgtEl>
                                          <p:spTgt spid="625">
                                            <p:txEl>
                                              <p:pRg st="0" end="0"/>
                                            </p:txEl>
                                          </p:spTgt>
                                        </p:tgtEl>
                                      </p:cBhvr>
                                    </p:animEffect>
                                    <p:anim calcmode="lin" valueType="num">
                                      <p:cBhvr additive="repl">
                                        <p:cTn id="18" dur="1000" fill="hold"/>
                                        <p:tgtEl>
                                          <p:spTgt spid="625">
                                            <p:txEl>
                                              <p:pRg st="0" end="0"/>
                                            </p:txEl>
                                          </p:spTgt>
                                        </p:tgtEl>
                                        <p:attrNameLst>
                                          <p:attrName>ppt_x</p:attrName>
                                        </p:attrNameLst>
                                      </p:cBhvr>
                                      <p:tavLst>
                                        <p:tav tm="0">
                                          <p:val>
                                            <p:strVal val="#ppt_x"/>
                                          </p:val>
                                        </p:tav>
                                        <p:tav tm="100000">
                                          <p:val>
                                            <p:strVal val="#ppt_x"/>
                                          </p:val>
                                        </p:tav>
                                      </p:tavLst>
                                    </p:anim>
                                    <p:anim calcmode="lin" valueType="num">
                                      <p:cBhvr additive="repl">
                                        <p:cTn id="19" dur="900" fill="hold"/>
                                        <p:tgtEl>
                                          <p:spTgt spid="625">
                                            <p:txEl>
                                              <p:pRg st="0" end="0"/>
                                            </p:txEl>
                                          </p:spTgt>
                                        </p:tgtEl>
                                        <p:attrNameLst>
                                          <p:attrName>ppt_y</p:attrName>
                                        </p:attrNameLst>
                                      </p:cBhvr>
                                      <p:tavLst>
                                        <p:tav tm="0">
                                          <p:val>
                                            <p:strVal val="#ppt_y+1"/>
                                          </p:val>
                                        </p:tav>
                                        <p:tav tm="100000">
                                          <p:val>
                                            <p:strVal val="#ppt_y-.03"/>
                                          </p:val>
                                        </p:tav>
                                      </p:tavLst>
                                    </p:anim>
                                    <p:anim calcmode="lin" valueType="num">
                                      <p:cBhvr additive="repl">
                                        <p:cTn id="20" dur="100" fill="hold">
                                          <p:stCondLst>
                                            <p:cond delay="900"/>
                                          </p:stCondLst>
                                        </p:cTn>
                                        <p:tgtEl>
                                          <p:spTgt spid="6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7">
                                  <p:stCondLst>
                                    <p:cond delay="0"/>
                                  </p:stCondLst>
                                  <p:childTnLst>
                                    <p:set>
                                      <p:cBhvr>
                                        <p:cTn id="24" dur="1" fill="hold">
                                          <p:stCondLst>
                                            <p:cond delay="0"/>
                                          </p:stCondLst>
                                        </p:cTn>
                                        <p:tgtEl>
                                          <p:spTgt spid="625">
                                            <p:txEl>
                                              <p:pRg st="1" end="1"/>
                                            </p:txEl>
                                          </p:spTgt>
                                        </p:tgtEl>
                                        <p:attrNameLst>
                                          <p:attrName>style.visibility</p:attrName>
                                        </p:attrNameLst>
                                      </p:cBhvr>
                                      <p:to>
                                        <p:strVal val="visible"/>
                                      </p:to>
                                    </p:set>
                                    <p:animEffect filter="fade" transition="in">
                                      <p:cBhvr additive="repl">
                                        <p:cTn id="25" dur="1000"/>
                                        <p:tgtEl>
                                          <p:spTgt spid="625">
                                            <p:txEl>
                                              <p:pRg st="1" end="1"/>
                                            </p:txEl>
                                          </p:spTgt>
                                        </p:tgtEl>
                                      </p:cBhvr>
                                    </p:animEffect>
                                    <p:anim calcmode="lin" valueType="num">
                                      <p:cBhvr additive="repl">
                                        <p:cTn id="26" dur="1000" fill="hold"/>
                                        <p:tgtEl>
                                          <p:spTgt spid="625">
                                            <p:txEl>
                                              <p:pRg st="1" end="1"/>
                                            </p:txEl>
                                          </p:spTgt>
                                        </p:tgtEl>
                                        <p:attrNameLst>
                                          <p:attrName>ppt_x</p:attrName>
                                        </p:attrNameLst>
                                      </p:cBhvr>
                                      <p:tavLst>
                                        <p:tav tm="0">
                                          <p:val>
                                            <p:strVal val="#ppt_x"/>
                                          </p:val>
                                        </p:tav>
                                        <p:tav tm="100000">
                                          <p:val>
                                            <p:strVal val="#ppt_x"/>
                                          </p:val>
                                        </p:tav>
                                      </p:tavLst>
                                    </p:anim>
                                    <p:anim calcmode="lin" valueType="num">
                                      <p:cBhvr additive="repl">
                                        <p:cTn id="27" dur="900" fill="hold"/>
                                        <p:tgtEl>
                                          <p:spTgt spid="625">
                                            <p:txEl>
                                              <p:pRg st="1" end="1"/>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900"/>
                                          </p:stCondLst>
                                        </p:cTn>
                                        <p:tgtEl>
                                          <p:spTgt spid="62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7">
                                  <p:stCondLst>
                                    <p:cond delay="0"/>
                                  </p:stCondLst>
                                  <p:childTnLst>
                                    <p:set>
                                      <p:cBhvr>
                                        <p:cTn id="32" dur="1" fill="hold">
                                          <p:stCondLst>
                                            <p:cond delay="0"/>
                                          </p:stCondLst>
                                        </p:cTn>
                                        <p:tgtEl>
                                          <p:spTgt spid="625">
                                            <p:txEl>
                                              <p:pRg st="2" end="2"/>
                                            </p:txEl>
                                          </p:spTgt>
                                        </p:tgtEl>
                                        <p:attrNameLst>
                                          <p:attrName>style.visibility</p:attrName>
                                        </p:attrNameLst>
                                      </p:cBhvr>
                                      <p:to>
                                        <p:strVal val="visible"/>
                                      </p:to>
                                    </p:set>
                                    <p:animEffect filter="fade" transition="in">
                                      <p:cBhvr additive="repl">
                                        <p:cTn id="33" dur="1000"/>
                                        <p:tgtEl>
                                          <p:spTgt spid="625">
                                            <p:txEl>
                                              <p:pRg st="2" end="2"/>
                                            </p:txEl>
                                          </p:spTgt>
                                        </p:tgtEl>
                                      </p:cBhvr>
                                    </p:animEffect>
                                    <p:anim calcmode="lin" valueType="num">
                                      <p:cBhvr additive="repl">
                                        <p:cTn id="34" dur="1000" fill="hold"/>
                                        <p:tgtEl>
                                          <p:spTgt spid="625">
                                            <p:txEl>
                                              <p:pRg st="2" end="2"/>
                                            </p:txEl>
                                          </p:spTgt>
                                        </p:tgtEl>
                                        <p:attrNameLst>
                                          <p:attrName>ppt_x</p:attrName>
                                        </p:attrNameLst>
                                      </p:cBhvr>
                                      <p:tavLst>
                                        <p:tav tm="0">
                                          <p:val>
                                            <p:strVal val="#ppt_x"/>
                                          </p:val>
                                        </p:tav>
                                        <p:tav tm="100000">
                                          <p:val>
                                            <p:strVal val="#ppt_x"/>
                                          </p:val>
                                        </p:tav>
                                      </p:tavLst>
                                    </p:anim>
                                    <p:anim calcmode="lin" valueType="num">
                                      <p:cBhvr additive="repl">
                                        <p:cTn id="35" dur="900" fill="hold"/>
                                        <p:tgtEl>
                                          <p:spTgt spid="625">
                                            <p:txEl>
                                              <p:pRg st="2" end="2"/>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900"/>
                                          </p:stCondLst>
                                        </p:cTn>
                                        <p:tgtEl>
                                          <p:spTgt spid="62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625">
                                            <p:txEl>
                                              <p:pRg st="3" end="3"/>
                                            </p:txEl>
                                          </p:spTgt>
                                        </p:tgtEl>
                                        <p:attrNameLst>
                                          <p:attrName>style.visibility</p:attrName>
                                        </p:attrNameLst>
                                      </p:cBhvr>
                                      <p:to>
                                        <p:strVal val="visible"/>
                                      </p:to>
                                    </p:set>
                                    <p:animEffect filter="fade" transition="in">
                                      <p:cBhvr additive="repl">
                                        <p:cTn id="41" dur="1000"/>
                                        <p:tgtEl>
                                          <p:spTgt spid="625">
                                            <p:txEl>
                                              <p:pRg st="3" end="3"/>
                                            </p:txEl>
                                          </p:spTgt>
                                        </p:tgtEl>
                                      </p:cBhvr>
                                    </p:animEffect>
                                    <p:anim calcmode="lin" valueType="num">
                                      <p:cBhvr additive="repl">
                                        <p:cTn id="42" dur="1000" fill="hold"/>
                                        <p:tgtEl>
                                          <p:spTgt spid="625">
                                            <p:txEl>
                                              <p:pRg st="3" end="3"/>
                                            </p:txEl>
                                          </p:spTgt>
                                        </p:tgtEl>
                                        <p:attrNameLst>
                                          <p:attrName>ppt_x</p:attrName>
                                        </p:attrNameLst>
                                      </p:cBhvr>
                                      <p:tavLst>
                                        <p:tav tm="0">
                                          <p:val>
                                            <p:strVal val="#ppt_x"/>
                                          </p:val>
                                        </p:tav>
                                        <p:tav tm="100000">
                                          <p:val>
                                            <p:strVal val="#ppt_x"/>
                                          </p:val>
                                        </p:tav>
                                      </p:tavLst>
                                    </p:anim>
                                    <p:anim calcmode="lin" valueType="num">
                                      <p:cBhvr additive="repl">
                                        <p:cTn id="43" dur="900" fill="hold"/>
                                        <p:tgtEl>
                                          <p:spTgt spid="625">
                                            <p:txEl>
                                              <p:pRg st="3" end="3"/>
                                            </p:txEl>
                                          </p:spTgt>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62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625">
                                            <p:txEl>
                                              <p:pRg st="4" end="4"/>
                                            </p:txEl>
                                          </p:spTgt>
                                        </p:tgtEl>
                                        <p:attrNameLst>
                                          <p:attrName>style.visibility</p:attrName>
                                        </p:attrNameLst>
                                      </p:cBhvr>
                                      <p:to>
                                        <p:strVal val="visible"/>
                                      </p:to>
                                    </p:set>
                                    <p:animEffect filter="fade" transition="in">
                                      <p:cBhvr additive="repl">
                                        <p:cTn id="49" dur="1000"/>
                                        <p:tgtEl>
                                          <p:spTgt spid="625">
                                            <p:txEl>
                                              <p:pRg st="4" end="4"/>
                                            </p:txEl>
                                          </p:spTgt>
                                        </p:tgtEl>
                                      </p:cBhvr>
                                    </p:animEffect>
                                    <p:anim calcmode="lin" valueType="num">
                                      <p:cBhvr additive="repl">
                                        <p:cTn id="50" dur="1000" fill="hold"/>
                                        <p:tgtEl>
                                          <p:spTgt spid="625">
                                            <p:txEl>
                                              <p:pRg st="4" end="4"/>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625">
                                            <p:txEl>
                                              <p:pRg st="4" end="4"/>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62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625">
                                            <p:txEl>
                                              <p:pRg st="5" end="5"/>
                                            </p:txEl>
                                          </p:spTgt>
                                        </p:tgtEl>
                                        <p:attrNameLst>
                                          <p:attrName>style.visibility</p:attrName>
                                        </p:attrNameLst>
                                      </p:cBhvr>
                                      <p:to>
                                        <p:strVal val="visible"/>
                                      </p:to>
                                    </p:set>
                                    <p:animEffect filter="fade" transition="in">
                                      <p:cBhvr additive="repl">
                                        <p:cTn id="57" dur="1000"/>
                                        <p:tgtEl>
                                          <p:spTgt spid="625">
                                            <p:txEl>
                                              <p:pRg st="5" end="5"/>
                                            </p:txEl>
                                          </p:spTgt>
                                        </p:tgtEl>
                                      </p:cBhvr>
                                    </p:animEffect>
                                    <p:anim calcmode="lin" valueType="num">
                                      <p:cBhvr additive="repl">
                                        <p:cTn id="58" dur="1000" fill="hold"/>
                                        <p:tgtEl>
                                          <p:spTgt spid="625">
                                            <p:txEl>
                                              <p:pRg st="5" end="5"/>
                                            </p:txEl>
                                          </p:spTgt>
                                        </p:tgtEl>
                                        <p:attrNameLst>
                                          <p:attrName>ppt_x</p:attrName>
                                        </p:attrNameLst>
                                      </p:cBhvr>
                                      <p:tavLst>
                                        <p:tav tm="0">
                                          <p:val>
                                            <p:strVal val="#ppt_x"/>
                                          </p:val>
                                        </p:tav>
                                        <p:tav tm="100000">
                                          <p:val>
                                            <p:strVal val="#ppt_x"/>
                                          </p:val>
                                        </p:tav>
                                      </p:tavLst>
                                    </p:anim>
                                    <p:anim calcmode="lin" valueType="num">
                                      <p:cBhvr additive="repl">
                                        <p:cTn id="59" dur="900" fill="hold"/>
                                        <p:tgtEl>
                                          <p:spTgt spid="625">
                                            <p:txEl>
                                              <p:pRg st="5" end="5"/>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900"/>
                                          </p:stCondLst>
                                        </p:cTn>
                                        <p:tgtEl>
                                          <p:spTgt spid="62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625">
                                            <p:txEl>
                                              <p:pRg st="6" end="6"/>
                                            </p:txEl>
                                          </p:spTgt>
                                        </p:tgtEl>
                                        <p:attrNameLst>
                                          <p:attrName>style.visibility</p:attrName>
                                        </p:attrNameLst>
                                      </p:cBhvr>
                                      <p:to>
                                        <p:strVal val="visible"/>
                                      </p:to>
                                    </p:set>
                                    <p:animEffect filter="fade" transition="in">
                                      <p:cBhvr additive="repl">
                                        <p:cTn id="65" dur="1000"/>
                                        <p:tgtEl>
                                          <p:spTgt spid="625">
                                            <p:txEl>
                                              <p:pRg st="6" end="6"/>
                                            </p:txEl>
                                          </p:spTgt>
                                        </p:tgtEl>
                                      </p:cBhvr>
                                    </p:animEffect>
                                    <p:anim calcmode="lin" valueType="num">
                                      <p:cBhvr additive="repl">
                                        <p:cTn id="66" dur="1000" fill="hold"/>
                                        <p:tgtEl>
                                          <p:spTgt spid="625">
                                            <p:txEl>
                                              <p:pRg st="6" end="6"/>
                                            </p:txEl>
                                          </p:spTgt>
                                        </p:tgtEl>
                                        <p:attrNameLst>
                                          <p:attrName>ppt_x</p:attrName>
                                        </p:attrNameLst>
                                      </p:cBhvr>
                                      <p:tavLst>
                                        <p:tav tm="0">
                                          <p:val>
                                            <p:strVal val="#ppt_x"/>
                                          </p:val>
                                        </p:tav>
                                        <p:tav tm="100000">
                                          <p:val>
                                            <p:strVal val="#ppt_x"/>
                                          </p:val>
                                        </p:tav>
                                      </p:tavLst>
                                    </p:anim>
                                    <p:anim calcmode="lin" valueType="num">
                                      <p:cBhvr additive="repl">
                                        <p:cTn id="67" dur="900" fill="hold"/>
                                        <p:tgtEl>
                                          <p:spTgt spid="625">
                                            <p:txEl>
                                              <p:pRg st="6" end="6"/>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625">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626">
                                            <p:txEl>
                                              <p:pRg st="0" end="0"/>
                                            </p:txEl>
                                          </p:spTgt>
                                        </p:tgtEl>
                                        <p:attrNameLst>
                                          <p:attrName>style.visibility</p:attrName>
                                        </p:attrNameLst>
                                      </p:cBhvr>
                                      <p:to>
                                        <p:strVal val="visible"/>
                                      </p:to>
                                    </p:set>
                                    <p:animEffect filter="slide(fromBottom)" transition="in">
                                      <p:cBhvr additive="repl">
                                        <p:cTn id="73" dur="500"/>
                                        <p:tgtEl>
                                          <p:spTgt spid="62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626">
                                            <p:txEl>
                                              <p:pRg st="1" end="1"/>
                                            </p:txEl>
                                          </p:spTgt>
                                        </p:tgtEl>
                                        <p:attrNameLst>
                                          <p:attrName>style.visibility</p:attrName>
                                        </p:attrNameLst>
                                      </p:cBhvr>
                                      <p:to>
                                        <p:strVal val="visible"/>
                                      </p:to>
                                    </p:set>
                                    <p:animEffect filter="slide(fromBottom)" transition="in">
                                      <p:cBhvr additive="repl">
                                        <p:cTn id="78" dur="500"/>
                                        <p:tgtEl>
                                          <p:spTgt spid="62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626">
                                            <p:txEl>
                                              <p:pRg st="2" end="2"/>
                                            </p:txEl>
                                          </p:spTgt>
                                        </p:tgtEl>
                                        <p:attrNameLst>
                                          <p:attrName>style.visibility</p:attrName>
                                        </p:attrNameLst>
                                      </p:cBhvr>
                                      <p:to>
                                        <p:strVal val="visible"/>
                                      </p:to>
                                    </p:set>
                                    <p:animEffect filter="slide(fromBottom)" transition="in">
                                      <p:cBhvr additive="repl">
                                        <p:cTn id="83" dur="500"/>
                                        <p:tgtEl>
                                          <p:spTgt spid="62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626">
                                            <p:txEl>
                                              <p:pRg st="3" end="3"/>
                                            </p:txEl>
                                          </p:spTgt>
                                        </p:tgtEl>
                                        <p:attrNameLst>
                                          <p:attrName>style.visibility</p:attrName>
                                        </p:attrNameLst>
                                      </p:cBhvr>
                                      <p:to>
                                        <p:strVal val="visible"/>
                                      </p:to>
                                    </p:set>
                                    <p:animEffect filter="slide(fromBottom)" transition="in">
                                      <p:cBhvr additive="repl">
                                        <p:cTn id="88" dur="500"/>
                                        <p:tgtEl>
                                          <p:spTgt spid="626">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626">
                                            <p:txEl>
                                              <p:pRg st="4" end="4"/>
                                            </p:txEl>
                                          </p:spTgt>
                                        </p:tgtEl>
                                        <p:attrNameLst>
                                          <p:attrName>style.visibility</p:attrName>
                                        </p:attrNameLst>
                                      </p:cBhvr>
                                      <p:to>
                                        <p:strVal val="visible"/>
                                      </p:to>
                                    </p:set>
                                    <p:animEffect filter="slide(fromBottom)" transition="in">
                                      <p:cBhvr additive="repl">
                                        <p:cTn id="93" dur="500"/>
                                        <p:tgtEl>
                                          <p:spTgt spid="6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3:02:48Z</dcterms:created>
  <dc:creator>John Barbery</dc:creator>
  <dc:description/>
  <dc:language>en-US</dc:language>
  <cp:lastModifiedBy>kxcarma</cp:lastModifiedBy>
  <cp:lastPrinted>2011-07-06T03:58:29Z</cp:lastPrinted>
  <dcterms:modified xsi:type="dcterms:W3CDTF">2011-07-06T15:04:53Z</dcterms:modified>
  <cp:revision>5</cp:revision>
  <dc:subject/>
  <dc:title>What can be more powerful than words?</dc:title>
</cp:coreProperties>
</file>